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3169-1F73-4CC9-BF60-EEAB18FF13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5CAB-C420-40F1-9805-2AA435A225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79001-E67B-44E1-AC83-68639994D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79738-7D11-4D76-8BAF-3EBE7693E9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4C076-47C6-4566-BEF1-15C23ADB51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1509D-8C82-4A80-A434-24F8EEBEDD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4AA24-0815-4581-82BE-6C8C740EEC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C3F35-FE00-4A63-AFE0-CD08EF43F2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7CA8C-C6D5-47C2-AC4D-782B68EE9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26D-E96E-4989-A455-BBAA4BD15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E47DC-F236-445F-A4B5-EA4218918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A0CD3-3CFC-469F-AA89-72D110A30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750A0-C9D7-40AD-BABC-1E54D541302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228240" y="1676160"/>
            <a:ext cx="8534520" cy="2819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Times New Roman"/>
              </a:rPr>
              <a:t>Adres</a:t>
            </a:r>
            <a:r>
              <a:rPr b="0" lang="cs-CZ" sz="5400" spc="-1" strike="noStrike">
                <a:solidFill>
                  <a:srgbClr val="000000"/>
                </a:solidFill>
                <a:latin typeface="Times New Roman"/>
              </a:rPr>
              <a:t>ářové služby </a:t>
            </a:r>
            <a:r>
              <a:rPr b="1" lang="cs-CZ" sz="5400" spc="-1" strike="noStrike">
                <a:solidFill>
                  <a:srgbClr val="000000"/>
                </a:solidFill>
                <a:latin typeface="Times New Roman"/>
              </a:rPr>
              <a:t>LDAP</a:t>
            </a: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 </a:t>
            </a:r>
            <a:br>
              <a:rPr sz="5400"/>
            </a:br>
            <a:br>
              <a:rPr sz="5400"/>
            </a:b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SLT2001</a:t>
            </a:r>
            <a:br>
              <a:rPr sz="4400"/>
            </a:b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alský dvůr, 15.-18. února 2001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5105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br>
              <a:rPr sz="2800"/>
            </a:b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objektů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4560" y="1980720"/>
            <a:ext cx="838188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(instance) může patřit současně do více jak jedné tříd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oužitelné atributy záznamu jsou množinovým součtem tříd, do kterých záznam patř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tributy se dělí na povinné a volitelné podle definice tří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finice tříd mohou být dědě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93EC8-67CC-4BE4-AAC8-2F0D2D860E9A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klad třídy a záznamu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0" y="2438280"/>
            <a:ext cx="3962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bjectclass pers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require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objectclass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c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allows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description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seeAlso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telephoneNumber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userPasswo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Tříd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4038480" y="1752480"/>
            <a:ext cx="2835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Záznam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4038480" y="2438280"/>
            <a:ext cx="5105520" cy="375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: michalm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ü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sn: Muhlpachr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description: Consultant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serPassword: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{crypt}Gb0Rd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elephonenumber: 43554 100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to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bjectclass: pers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6A5-2510-4E3D-AFAD-6FEE06F0F37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Adresářové schem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tributy a objekty známé adresářovému serveru tvoří schem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resářové schema popisuje typ dat, která mohou být obsažena v adresář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hema může být rozšiřováno přidáváním nových atributů a tříd objektů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167F5-DFB2-4CA1-A3B1-C336C8A7DAB7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resářový strom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intro_dctree" descr=""/>
          <p:cNvPicPr/>
          <p:nvPr/>
        </p:nvPicPr>
        <p:blipFill>
          <a:blip r:embed="rId1"/>
          <a:stretch/>
        </p:blipFill>
        <p:spPr>
          <a:xfrm>
            <a:off x="1447920" y="2286000"/>
            <a:ext cx="6365880" cy="3989520"/>
          </a:xfrm>
          <a:prstGeom prst="rect">
            <a:avLst/>
          </a:prstGeom>
          <a:ln w="0">
            <a:noFill/>
          </a:ln>
        </p:spPr>
      </p:pic>
      <p:sp>
        <p:nvSpPr>
          <p:cNvPr id="78" name=""/>
          <p:cNvSpPr/>
          <p:nvPr/>
        </p:nvSpPr>
        <p:spPr>
          <a:xfrm>
            <a:off x="685800" y="1523880"/>
            <a:ext cx="7238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Záznamy jsou organizovány ve struktuře podobné strom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B6350-4AFE-4C11-93AB-903078F7CF82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9" name=""/>
          <p:cNvGraphicFramePr/>
          <p:nvPr/>
        </p:nvGraphicFramePr>
        <p:xfrm>
          <a:off x="380880" y="1066680"/>
          <a:ext cx="4480200" cy="5457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80880" y="1066680"/>
                    <a:ext cx="4480200" cy="5457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81" name=""/>
          <p:cNvSpPr/>
          <p:nvPr/>
        </p:nvSpPr>
        <p:spPr>
          <a:xfrm>
            <a:off x="5219640" y="1596960"/>
            <a:ext cx="1077840" cy="34920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K2 accou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5527800" y="3178080"/>
            <a:ext cx="1087200" cy="35892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connServi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5950080" y="4587840"/>
            <a:ext cx="10951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sub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7232760" y="202572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Subn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7426440" y="247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pAdd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186600" y="5083200"/>
            <a:ext cx="1096920" cy="33984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202360" y="266400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localit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5535720" y="36640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ou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5746680" y="4121280"/>
            <a:ext cx="10969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it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292720" y="3000240"/>
            <a:ext cx="0" cy="876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02080" y="3876840"/>
            <a:ext cx="2368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292720" y="3381480"/>
            <a:ext cx="2379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645160" y="401004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829480" y="44766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6058080" y="493380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7280280" y="237168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5645160" y="42861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5819760" y="475308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6058080" y="520056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7297560" y="2638440"/>
            <a:ext cx="114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01" name=""/>
          <p:cNvCxnSpPr>
            <a:stCxn id="81" idx="3"/>
            <a:endCxn id="82" idx="3"/>
          </p:cNvCxnSpPr>
          <p:nvPr/>
        </p:nvCxnSpPr>
        <p:spPr>
          <a:xfrm>
            <a:off x="6297480" y="1771560"/>
            <a:ext cx="317880" cy="1586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2" name=""/>
          <p:cNvCxnSpPr>
            <a:stCxn id="82" idx="3"/>
            <a:endCxn id="84" idx="1"/>
          </p:cNvCxnSpPr>
          <p:nvPr/>
        </p:nvCxnSpPr>
        <p:spPr>
          <a:xfrm flipV="1">
            <a:off x="6615000" y="2195640"/>
            <a:ext cx="618480" cy="1162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3" name=""/>
          <p:cNvCxnSpPr>
            <a:stCxn id="83" idx="3"/>
            <a:endCxn id="85" idx="2"/>
          </p:cNvCxnSpPr>
          <p:nvPr/>
        </p:nvCxnSpPr>
        <p:spPr>
          <a:xfrm flipV="1">
            <a:off x="7045200" y="2812680"/>
            <a:ext cx="930960" cy="1945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4" name=""/>
          <p:cNvCxnSpPr>
            <a:stCxn id="82" idx="3"/>
            <a:endCxn id="83" idx="3"/>
          </p:cNvCxnSpPr>
          <p:nvPr/>
        </p:nvCxnSpPr>
        <p:spPr>
          <a:xfrm>
            <a:off x="6614640" y="3357360"/>
            <a:ext cx="430920" cy="1400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5" name=""/>
          <p:cNvCxnSpPr>
            <a:stCxn id="82" idx="3"/>
            <a:endCxn id="85" idx="2"/>
          </p:cNvCxnSpPr>
          <p:nvPr/>
        </p:nvCxnSpPr>
        <p:spPr>
          <a:xfrm flipV="1">
            <a:off x="6614640" y="2812320"/>
            <a:ext cx="1360800" cy="5454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106" name=""/>
          <p:cNvCxnSpPr>
            <a:stCxn id="86" idx="3"/>
            <a:endCxn id="85" idx="2"/>
          </p:cNvCxnSpPr>
          <p:nvPr/>
        </p:nvCxnSpPr>
        <p:spPr>
          <a:xfrm flipV="1">
            <a:off x="7283520" y="2812680"/>
            <a:ext cx="692640" cy="2440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107" name=""/>
          <p:cNvSpPr/>
          <p:nvPr/>
        </p:nvSpPr>
        <p:spPr>
          <a:xfrm>
            <a:off x="6934320" y="1568520"/>
            <a:ext cx="1095120" cy="339480"/>
          </a:xfrm>
          <a:prstGeom prst="flowChartProcess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808080"/>
                </a:solidFill>
                <a:latin typeface="Arial"/>
              </a:rPr>
              <a:t>resourc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7086600" y="1905120"/>
            <a:ext cx="0" cy="2667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7104240" y="2171880"/>
            <a:ext cx="1141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533520" y="380880"/>
            <a:ext cx="7772400" cy="5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Times New Roman"/>
              </a:rPr>
              <a:t>Hierarchie stromu a referen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1" name=""/>
          <p:cNvCxnSpPr>
            <a:stCxn id="86" idx="3"/>
            <a:endCxn id="84" idx="1"/>
          </p:cNvCxnSpPr>
          <p:nvPr/>
        </p:nvCxnSpPr>
        <p:spPr>
          <a:xfrm flipH="1" flipV="1">
            <a:off x="7232040" y="2194920"/>
            <a:ext cx="51480" cy="3058200"/>
          </a:xfrm>
          <a:prstGeom prst="straightConnector1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7EC9-8A11-4738-A930-E3FE78BF1660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Každý záznam je unikátně identifikován svým distinguished name (D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nalogické k cestě souboru ve file systé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Jeden nebo více atributů je použito pro relative distinguished name (RDN)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záznamu je tvořen svým RDN a RDN svých předchůdc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42F0E-16DB-4801-B292-40CC1CEC98B1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Namesp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838080" y="34290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peop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581280" y="19051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o=firm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248520" y="3505320"/>
            <a:ext cx="1828800" cy="761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ou=group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8" name=""/>
          <p:cNvCxnSpPr>
            <a:stCxn id="115" idx="0"/>
            <a:endCxn id="117" idx="0"/>
          </p:cNvCxnSpPr>
          <p:nvPr/>
        </p:nvCxnSpPr>
        <p:spPr>
          <a:xfrm flipH="1" rot="16200000">
            <a:off x="4419360" y="761760"/>
            <a:ext cx="76680" cy="5411160"/>
          </a:xfrm>
          <a:prstGeom prst="bentConnector3">
            <a:avLst>
              <a:gd name="adj1" fmla="val -301415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19" name=""/>
          <p:cNvCxnSpPr>
            <a:endCxn id="116" idx="2"/>
          </p:cNvCxnSpPr>
          <p:nvPr/>
        </p:nvCxnSpPr>
        <p:spPr>
          <a:xfrm flipV="1">
            <a:off x="4495320" y="26665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0" name=""/>
          <p:cNvSpPr/>
          <p:nvPr/>
        </p:nvSpPr>
        <p:spPr>
          <a:xfrm>
            <a:off x="228600" y="4952880"/>
            <a:ext cx="20574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michal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2438280" y="495288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uid=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2" name=""/>
          <p:cNvCxnSpPr>
            <a:stCxn id="120" idx="0"/>
            <a:endCxn id="121" idx="0"/>
          </p:cNvCxnSpPr>
          <p:nvPr/>
        </p:nvCxnSpPr>
        <p:spPr>
          <a:xfrm flipH="1" rot="16200000">
            <a:off x="2304000" y="3904920"/>
            <a:ext cx="2520" cy="209592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3" name=""/>
          <p:cNvCxnSpPr/>
          <p:nvPr/>
        </p:nvCxnSpPr>
        <p:spPr>
          <a:xfrm flipV="1">
            <a:off x="1752120" y="4190400"/>
            <a:ext cx="10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4" name=""/>
          <p:cNvSpPr/>
          <p:nvPr/>
        </p:nvSpPr>
        <p:spPr>
          <a:xfrm>
            <a:off x="50292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provo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7086600" y="5029200"/>
            <a:ext cx="1828800" cy="7621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cn=obcho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6" name=""/>
          <p:cNvCxnSpPr>
            <a:stCxn id="124" idx="0"/>
            <a:endCxn id="125" idx="0"/>
          </p:cNvCxnSpPr>
          <p:nvPr/>
        </p:nvCxnSpPr>
        <p:spPr>
          <a:xfrm flipH="1" rot="16200000">
            <a:off x="6971040" y="4001040"/>
            <a:ext cx="2160" cy="2057760"/>
          </a:xfrm>
          <a:prstGeom prst="bentConnector3">
            <a:avLst>
              <a:gd name="adj1" fmla="val -14400000"/>
            </a:avLst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27" name=""/>
          <p:cNvCxnSpPr/>
          <p:nvPr/>
        </p:nvCxnSpPr>
        <p:spPr>
          <a:xfrm flipV="1">
            <a:off x="7162560" y="4266720"/>
            <a:ext cx="108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28" name=""/>
          <p:cNvSpPr/>
          <p:nvPr/>
        </p:nvSpPr>
        <p:spPr>
          <a:xfrm>
            <a:off x="2895480" y="3505320"/>
            <a:ext cx="3353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ou=people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228600" y="5791320"/>
            <a:ext cx="4800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RDN: uid=michalm</a:t>
            </a:r>
            <a:br>
              <a:rPr sz="1800"/>
            </a:br>
            <a:r>
              <a:rPr b="1" lang="cs-CZ" sz="1800" spc="-1" strike="noStrike">
                <a:solidFill>
                  <a:srgbClr val="000000"/>
                </a:solidFill>
                <a:latin typeface="Courier New"/>
              </a:rPr>
              <a:t>DN: uid=michalm,ou=people,o=firm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228600" y="1219320"/>
            <a:ext cx="8610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N má formát seznamu čárkou oddělených dvojic atribut a hodnot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75CFE-DF0C-4F71-85F2-D4272A79822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oper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d, Unbind – identifikace a autentiz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ompare – porovnání hodnoty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– naleze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– modifikace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dd – přid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lete – vymazání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odify RDN – modifikace RDN nebo přesun záznamu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724E5-EFC6-45E4-9BF2-93A24AA15116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řístupová práva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umožňuje řídit přístup k záznamů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server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anonymní / user + password / user + certifikát a S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řístup k datů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ová práva (search/read/write) mohou být nastavena podle větve, objektu nebo atributu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přístup může být řízen podle uživatelů, skupin, IP adres, domén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D6239-1AB2-43F3-B75A-150DC230D93E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ase (odkud ve stromě začít hledat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rátory přítomnost atributu, rovnost hodnoty atributu, menší, větší, substring, „zní jako“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kládání pomocí and, or, not a závorkován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c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ase, one, subtre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ychlost vyhledávání závisí na indexování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84EFA-B778-441C-AA67-50B65F9BB8AE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atabázová aplikace používaná pro správu položek adresář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zpřístupňuje informace pro uživatele a aplikac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ětšinou používá architekturu klient-serv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ůže být distribuovaná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NS je příkladem adresářové služby mapující host jména na IP adres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3D564-146A-4B4C-AC1B-F73EBB41A979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0" y="609120"/>
            <a:ext cx="9144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Vyhledávání – Netscape address b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685800" y="2438280"/>
            <a:ext cx="7772400" cy="352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(cn=*michal*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cn, mail, o, telephoneNumber,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  l, nickname, sn, given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FA1CF-A560-4291-9AD1-7C2F457987A3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"/>
          <p:cNvSpPr/>
          <p:nvPr/>
        </p:nvSpPr>
        <p:spPr>
          <a:xfrm>
            <a:off x="0" y="609480"/>
            <a:ext cx="91440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Vyhledávání – Microsoft Outloo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457200" y="1890720"/>
            <a:ext cx="8915400" cy="434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Vyhledávání 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„michal“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earch filter:</a:t>
            </a:r>
            <a:br>
              <a:rPr sz="3200"/>
            </a:b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|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il</a:t>
            </a:r>
            <a:r>
              <a:rPr b="0" lang="cs-CZ" sz="2800" spc="-1" strike="noStrike">
                <a:solidFill>
                  <a:srgbClr val="000000"/>
                </a:solidFill>
                <a:latin typeface="Courier New"/>
              </a:rPr>
              <a:t>=michal*)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(cn=michal*)(sn=michal*)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ožadované atributy: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Display-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cn, commonName</a:t>
            </a:r>
            <a:r>
              <a:rPr b="0" lang="cs-CZ" sz="3200" spc="-1" strike="noStrike">
                <a:solidFill>
                  <a:srgbClr val="000000"/>
                </a:solidFill>
                <a:latin typeface="Courier New"/>
              </a:rPr>
              <a:t>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mail, otherMailBox, givenName,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Courier New"/>
              </a:rPr>
              <a:t>  sn, surna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3A300-46FB-49EB-9311-1142EE0A8D7C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tribuované LDAP - referal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2" name="config_local" descr=""/>
          <p:cNvPicPr/>
          <p:nvPr/>
        </p:nvPicPr>
        <p:blipFill>
          <a:blip r:embed="rId1"/>
          <a:stretch/>
        </p:blipFill>
        <p:spPr>
          <a:xfrm>
            <a:off x="2362320" y="2209680"/>
            <a:ext cx="4308480" cy="879480"/>
          </a:xfrm>
          <a:prstGeom prst="rect">
            <a:avLst/>
          </a:prstGeom>
          <a:ln w="0">
            <a:noFill/>
          </a:ln>
        </p:spPr>
      </p:pic>
      <p:pic>
        <p:nvPicPr>
          <p:cNvPr id="143" name="config_ref" descr=""/>
          <p:cNvPicPr/>
          <p:nvPr/>
        </p:nvPicPr>
        <p:blipFill>
          <a:blip r:embed="rId2"/>
          <a:stretch/>
        </p:blipFill>
        <p:spPr>
          <a:xfrm>
            <a:off x="2362320" y="3581280"/>
            <a:ext cx="4308480" cy="2171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4916A-E97B-4594-B6D1-7D0E124C8254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config_repl" descr=""/>
          <p:cNvPicPr/>
          <p:nvPr/>
        </p:nvPicPr>
        <p:blipFill>
          <a:blip r:embed="rId1"/>
          <a:stretch/>
        </p:blipFill>
        <p:spPr>
          <a:xfrm>
            <a:off x="2365200" y="2182680"/>
            <a:ext cx="4411800" cy="2492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4ACD-B74E-47E0-ABDE-B4389340F22C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6" name="gq" descr=""/>
          <p:cNvPicPr/>
          <p:nvPr/>
        </p:nvPicPr>
        <p:blipFill>
          <a:blip r:embed="rId1"/>
          <a:stretch/>
        </p:blipFill>
        <p:spPr>
          <a:xfrm>
            <a:off x="762120" y="914400"/>
            <a:ext cx="7619760" cy="5533920"/>
          </a:xfrm>
          <a:prstGeom prst="rect">
            <a:avLst/>
          </a:prstGeom>
          <a:ln w="0">
            <a:noFill/>
          </a:ln>
        </p:spPr>
      </p:pic>
      <p:sp>
        <p:nvSpPr>
          <p:cNvPr id="147" name=""/>
          <p:cNvSpPr/>
          <p:nvPr/>
        </p:nvSpPr>
        <p:spPr>
          <a:xfrm>
            <a:off x="685800" y="228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85800" y="0"/>
            <a:ext cx="7620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gq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8897-78E3-4578-AB4D-8BB37817AFAF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ldapsearch_host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E6535-9E38-4094-BBC7-E8FA5E5F1BC9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0" name="ldapsearch_user" descr=""/>
          <p:cNvPicPr/>
          <p:nvPr/>
        </p:nvPicPr>
        <p:blipFill>
          <a:blip r:embed="rId1"/>
          <a:stretch/>
        </p:blipFill>
        <p:spPr>
          <a:xfrm>
            <a:off x="90360" y="171360"/>
            <a:ext cx="8961480" cy="65152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8D236-CA33-4590-9032-ECC087E738C7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netscape" descr=""/>
          <p:cNvPicPr/>
          <p:nvPr/>
        </p:nvPicPr>
        <p:blipFill>
          <a:blip r:embed="rId1"/>
          <a:stretch/>
        </p:blipFill>
        <p:spPr>
          <a:xfrm>
            <a:off x="762120" y="1143000"/>
            <a:ext cx="7619760" cy="535320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762120" y="22860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Netscape clien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2847F-580F-4CFA-94B2-CECFBB73EA8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304920" y="38052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IF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228600" y="1143000"/>
            <a:ext cx="868680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n: host=debussy,ou=host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objectclass: top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ccess: all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dmin: debian-admin@lists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architecture: ar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: at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etimestamp: 19990929040652Z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creatorsname: uid=jgg,ou=users,dc=debian,dc=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escription: ARM port machine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k: 5G [6G]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distribution: potato Debian GNU/Linux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: debussy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ostname: debussy.debian.org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l: Wien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achine: Strong Arm SA110 rev 3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emory: 64M </a:t>
            </a:r>
            <a:br>
              <a:rPr sz="1800"/>
            </a:b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modifiersname: uid=jgg,ou=users,dc=debian,dc=org modifytimestamp: 20010110060813Z root@debussy.debian.org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E3741-9FC8-45A4-B1F2-2C94573DBC12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ython API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533520" y="1471680"/>
            <a:ext cx="8229600" cy="540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#!/usr/bin/env python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mport lda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 = ldap.open ('ldap.firma.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cz</a:t>
            </a: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', 389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l.simple_bind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uid=user,ou=people,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password')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for dn, dict in l.search_s(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dc=firma,dc=cz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ldap.SCOPE_ONELEVEL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'(objectClass=*)',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['objectClass', 'description'])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print dict['objectClass'][0], 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\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          dict['description'][0]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8C54-92EF-430A-A6D1-A1F7713533CF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adresářová služba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lobální adresářová služba zajišťuje centralizovaný sklad informací o organizac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idé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očítač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iskárn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konferenční místnost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EA75E-CD5F-4856-AF6E-0493CA279A2A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oužití LDAP v O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SIA Plug-i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tpw*(), getgr*() funkce v lib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og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P/IM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cela transparentní pro uživate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P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am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ss-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495CF-8A69-4D57-9094-A87DD248C96B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LDAP enabled aplikac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MTA – Exim, Qmail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-L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urier IMAP/PO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Apach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op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P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Netscape Navigator, mutt, Emacs, MS Explorer, MS Outlook, 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E43E8-068E-46C4-B7C4-220CFFF0E978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penLDAP 2.0.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380520" y="1219320"/>
            <a:ext cx="845820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v2 a LDAPv3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Pv4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 IPv6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Cyrus SAS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- 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DIGEST-MD5, EXTERNAL</a:t>
            </a: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 a</a:t>
            </a:r>
            <a:r>
              <a:rPr b="0" lang="cs-CZ" sz="2000" spc="-1" strike="noStrike">
                <a:solidFill>
                  <a:srgbClr val="000000"/>
                </a:solidFill>
                <a:latin typeface="Times New Roman"/>
              </a:rPr>
              <a:t> GSSAP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Access control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tatický, dynamický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ternacionalizace: Unicode a jazykové tag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ůzné DB backendy: LDBM (BerkleyDB, GDBM), shell, simple passwd file, více databází současně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enerické API pro moduly (SQL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Thre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Replikace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CE079-E1F7-4DFC-816B-1AEE0461E60F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6094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8458200" cy="51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rotokol založený na otevřených standardech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ůže být distribuovaný přes různé platformy, firmu, planet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Univerzální atribut/hodnota adresář, který je rychlý, replikovaný a spolehlivý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Škálovatelné na milióny záznamů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entralizovaný management informací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ACL, S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noho API (ANSI C, shell, Python, Perl, Java, 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ednoduchost ale výkonno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AD8A3-5E33-47BE-A837-15C3B071E545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609480" y="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oč je LDAP zajímavé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85800" y="1219320"/>
            <a:ext cx="8458200" cy="510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Hodně komerčních implementací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etscape (iPlanet) Directory Server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Novell 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nsoft, Lucent, IBM D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racle DB LDAP stor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rosoft Active Directory Servi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eta directory produk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2B kooperace – DSML =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Directory Services Markup Languag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 source OpenLDA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76B01-728F-41C7-9573-6961E691D9B8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1 -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2 - LDAPv3: syntaxe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3 - LDAPv3: UTF-8 reprezentace DN = Disnq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4 - reprezentace search filter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5 - LDAP URL format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0E966-4B49-4922-9175-77A6564BE00A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související RFC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256 - souhrn X.500(96)</a:t>
            </a:r>
            <a:br>
              <a:rPr sz="3200"/>
            </a:b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User schema pro LDAPv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2307 – přiblížení LDAP pro použití jako Neteork Information Servi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798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onnectionless LDAP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RFC 1823 The LDAP Application Program Interfac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705719-623D-4F7D-ABDD-9E8A84BEFE7C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RL o</a:t>
            </a: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kaz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761760"/>
            <a:ext cx="8229600" cy="6095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LDAP</a:t>
            </a:r>
            <a:br>
              <a:rPr sz="32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www.openldap.org/</a:t>
            </a:r>
            <a:br>
              <a:rPr sz="20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: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www.openldap.org/faq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tscape (iPlane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/</a:t>
            </a: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developer.netscape.com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SASL - </a:t>
            </a:r>
            <a:r>
              <a:rPr b="1" lang="cs-CZ" sz="2800" spc="-1" strike="noStrike">
                <a:solidFill>
                  <a:srgbClr val="000000"/>
                </a:solidFill>
                <a:latin typeface="Times New Roman"/>
              </a:rPr>
              <a:t>Simple Authentication and Security Layer</a:t>
            </a:r>
            <a:br>
              <a:rPr sz="24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asg.web.cmu.edu/sasl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OpenSS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openss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SML</a:t>
            </a:r>
            <a:br>
              <a:rPr sz="2800"/>
            </a:br>
            <a:r>
              <a:rPr b="0" lang="cs-CZ" sz="2000" spc="-1" strike="noStrike">
                <a:solidFill>
                  <a:srgbClr val="000000"/>
                </a:solidFill>
                <a:latin typeface="Courier New"/>
              </a:rPr>
              <a:t>http://www.dsml.org/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padl.com/software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innosoft.com/ldapworld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ozilla.org/directory/csdk.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connectathon.org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rudedog.org/auth_ldap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delouw.ch/linux/apache.phtm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800" spc="-1" strike="noStrike">
                <a:solidFill>
                  <a:srgbClr val="000000"/>
                </a:solidFill>
                <a:latin typeface="Courier New"/>
              </a:rPr>
              <a:t>http://www.mindcraft.com/directorymark/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EB11D7-36A4-4D0F-B951-FF2332B41A8E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Knih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609480" y="1295280"/>
            <a:ext cx="7848720" cy="518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Mark Wilcox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mplementing LDAP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-861002-21-1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Tim Howes, Mark C. Smith, Gordon S. Good, Timothy A. Howes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Understanding and Deploying Ldap Directory Services Network Architecture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157870070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Pete Loshin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Big Book of Lightweight Directory Access Protocol (Ldap) Rfcs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12455843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cs-CZ" sz="2800" spc="-1" strike="noStrike">
                <a:solidFill>
                  <a:srgbClr val="000000"/>
                </a:solidFill>
                <a:latin typeface="Times New Roman"/>
              </a:rPr>
              <a:t>Bruce Greenblatt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: Internet Directories: How to Build and Manage Applications for LDAP, DNS, and Other Directories </a:t>
            </a:r>
            <a:br>
              <a:rPr sz="2800"/>
            </a:br>
            <a:r>
              <a:rPr b="0" lang="cs-CZ" sz="2400" spc="-1" strike="noStrike">
                <a:solidFill>
                  <a:srgbClr val="000000"/>
                </a:solidFill>
                <a:latin typeface="Courier New"/>
              </a:rPr>
              <a:t>ISBN 0-13-974452-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534B1-59E4-46B6-9F9D-9355DE525575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Times New Roman"/>
              </a:rPr>
              <a:t>Disku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600200" y="2438280"/>
            <a:ext cx="61722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otaz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omentář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371600" y="4800600"/>
            <a:ext cx="6400800" cy="20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Michal Mühlpach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urier New"/>
              </a:rPr>
              <a:t>&lt;michalm@nextra.cz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Děkuji za pozornos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8772C-3A9E-4A25-8D11-2D4D04756214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 je to LDAP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Standardní protokol pro globální adresářové služb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server poskytuje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LDAP klient využívá služ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Začal jako TCP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P front end k X.5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zachovává X.500 data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ETF standar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A9F61-B688-44D9-BDD7-7F70B582332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Histori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TU-T X.500 1985-1988 DA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FC 1487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993</a:t>
            </a: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2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777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v3 RFC</a:t>
            </a:r>
            <a:r>
              <a:rPr b="1" lang="cs-CZ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2251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odpora mezinárodních znaků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Unicode UTF-8, </a:t>
            </a: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jazykové kód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bezpečnost (SSL, SASL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distribuovano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referal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extensibilita (např. dávkový import dat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informace o funkcionalitě a sche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2C582-48C5-4CC7-B4BF-3E67494D1618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LDAP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094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4267080" y="2133720"/>
            <a:ext cx="1828800" cy="11430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DAP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erv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514600" y="251460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2514240" y="2895480"/>
            <a:ext cx="16765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934320" y="3429000"/>
            <a:ext cx="1371600" cy="1523880"/>
          </a:xfrm>
          <a:prstGeom prst="can">
            <a:avLst>
              <a:gd name="adj" fmla="val 25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atabáz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7" name=""/>
          <p:cNvCxnSpPr>
            <a:stCxn id="53" idx="3"/>
            <a:endCxn id="56" idx="1"/>
          </p:cNvCxnSpPr>
          <p:nvPr/>
        </p:nvCxnSpPr>
        <p:spPr>
          <a:xfrm>
            <a:off x="6095880" y="2704680"/>
            <a:ext cx="1524960" cy="724680"/>
          </a:xfrm>
          <a:prstGeom prst="bentConnector2">
            <a:avLst/>
          </a:prstGeom>
          <a:ln w="19080">
            <a:solidFill>
              <a:srgbClr val="000000"/>
            </a:solidFill>
            <a:prstDash val="sysDot"/>
            <a:miter/>
            <a:headEnd len="med" type="triangle" w="med"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2666880" y="190512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žadavk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743200" y="2971800"/>
            <a:ext cx="1600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dpovědi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685800" y="3962520"/>
            <a:ext cx="56386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Server přijímá na TCP portu: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389 LDAP</a:t>
            </a:r>
            <a:br>
              <a:rPr sz="2400"/>
            </a:b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cs-CZ" sz="2400" spc="-1" strike="noStrike">
                <a:solidFill>
                  <a:srgbClr val="000000"/>
                </a:solidFill>
                <a:latin typeface="Times New Roman"/>
              </a:rPr>
              <a:t>636 LDAP over SS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87AB3-5293-4EFF-8A90-E5BCFCE179F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ý model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kladní informační jednotka je zázna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Záznam je soubor atribut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Každý atribut má jméno, typ a žádnou, jednu nebo více hodno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yp určuje jaké druhy hodnot mohou být uložen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SN.1, BER, O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B1CD9-80F0-418D-B4DD-FD8BB2CB13E2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Datové typ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is – case insensitive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ces – case exact str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int – integ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bin – binary 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n – distinguished na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tel – telephone numb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D473E-B910-4A9D-A2FD-263166E678B1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řídy záznamů (objektů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Definuje atributy (jména a typy), které záznam musí a může obsahov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Times New Roman"/>
              </a:rPr>
              <a:t>LDAP definuje standardní množinu tříd pro zajištění interoperabilit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person, organizationalPerson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country, locality, organization, organizstionalUnit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groupOfNames,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Times New Roman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4EC9B-31B5-4D8B-9A2A-04DBB558CCEF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15T14:14:22Z</dcterms:created>
  <dc:creator>Michal Mühlpachr</dc:creator>
  <dc:description/>
  <dc:language>en-US</dc:language>
  <cp:lastModifiedBy>Michal Mühlpachr</cp:lastModifiedBy>
  <dcterms:modified xsi:type="dcterms:W3CDTF">2001-02-17T20:40:39Z</dcterms:modified>
  <cp:revision>16</cp:revision>
  <dc:subject/>
  <dc:title>Adresářové služby LDAP   SLT2001 Skalský dvůr, 15.-18. února 2001</dc:title>
</cp:coreProperties>
</file>