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4.png" ContentType="image/png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</p:sldIdLst>
  <p:sldSz cx="9144000" cy="6858000"/>
  <p:notesSz cx="6991350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DF6E6-8095-4F6C-A68B-E90D42BDF0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2ECB7-4BC2-40CB-9D3A-6B667014C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62884-931A-4ABB-BB15-71CBD72861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1CACF-27DC-4D9B-A88A-0D9063FEFA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4E839E-B22D-4065-9049-DC45ABC4B4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9C195-27FA-427C-98FB-45847A7215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8916E9-16F2-4B2C-BC39-2CB47C83EC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33872-8740-4774-919D-C58754CBF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DE3F9-C086-416D-8D70-CAFE1BA095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22BCC3-4B96-4B5E-A72B-EC6FB82093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30EC8B-7509-4AC1-B6DD-ABFB9CF81A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D7373-2F6A-4EE1-B760-15A724A096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50F17E-2E57-4977-8C34-60FC68AECE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3473C1-8ED6-44B8-8864-B5F76D1DB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0934A1-3E18-4F8A-8684-6D5B19585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3FBE6B-34E8-468B-9F5A-858B7A4CA0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87144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6447960" y="350532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129492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87144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6447960" y="4858560"/>
            <a:ext cx="245340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9EE563-2AC3-4D72-87CE-90D9C0A89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762012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86FE6-EB9C-4307-82FF-360A5133EE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2E798-FDCB-43FA-9448-0E1541B743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667D9-F1C8-43DD-B7BD-5FBF99F023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1142640" y="1752120"/>
            <a:ext cx="7924680" cy="777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D3C6-617B-4BB6-A955-6F8C9862C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774EA-1628-43BC-ADBA-C3E7E0471F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2590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199840" y="485856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D2361-9A93-4DC7-A6B0-2A19BF409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29492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99840" y="3505320"/>
            <a:ext cx="371844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294920" y="4858560"/>
            <a:ext cx="7620120" cy="1235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5CCF1-80C8-4361-ACB3-443B97B32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298BD8-DCF8-4E42-BA39-C34C102D292F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8" name="PlaceHolder 5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v2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2640" y="1752120"/>
            <a:ext cx="792468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Click to edit the title text format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dt" idx="4"/>
          </p:nvPr>
        </p:nvSpPr>
        <p:spPr>
          <a:xfrm>
            <a:off x="1143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Palatino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ftr" idx="5"/>
          </p:nvPr>
        </p:nvSpPr>
        <p:spPr>
          <a:xfrm>
            <a:off x="36572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Palatino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6"/>
          </p:nvPr>
        </p:nvSpPr>
        <p:spPr>
          <a:xfrm>
            <a:off x="70866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Palatino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818E2-A6D3-4782-A0BA-490CBB9D26C8}" type="slidenum">
              <a:rPr b="0" lang="en-US" sz="1400" spc="-1" strike="noStrike">
                <a:solidFill>
                  <a:srgbClr val="000000"/>
                </a:solidFill>
                <a:latin typeface="Palatino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0" y="457200"/>
            <a:ext cx="990720" cy="6400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990720" cy="990720"/>
          </a:xfrm>
          <a:prstGeom prst="ellipse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 rot="16200000">
            <a:off x="4305240" y="-3847680"/>
            <a:ext cx="990720" cy="8686800"/>
          </a:xfrm>
          <a:prstGeom prst="rect">
            <a:avLst/>
          </a:prstGeom>
          <a:solidFill>
            <a:srgbClr val="5bad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Z_horizontal" descr=""/>
          <p:cNvPicPr/>
          <p:nvPr/>
        </p:nvPicPr>
        <p:blipFill>
          <a:blip r:embed="rId2"/>
          <a:stretch/>
        </p:blipFill>
        <p:spPr>
          <a:xfrm>
            <a:off x="0" y="0"/>
            <a:ext cx="2743200" cy="97488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 rot="16200000">
            <a:off x="-1704960" y="4592160"/>
            <a:ext cx="39610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Omni"/>
              </a:rPr>
              <a:t>Free presentation</a:t>
            </a:r>
            <a:br>
              <a:rPr sz="1000"/>
            </a:b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redistribut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and/or modif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ication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 under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terms of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GNU 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GPL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v2</a:t>
            </a:r>
            <a:r>
              <a:rPr b="0" lang="en-US" sz="1000" spc="-1" strike="noStrike">
                <a:solidFill>
                  <a:srgbClr val="000000"/>
                </a:solidFill>
                <a:latin typeface="Arial Unicode MS"/>
              </a:rPr>
              <a:t> </a:t>
            </a:r>
            <a:r>
              <a:rPr b="0" lang="cs-CZ" sz="1000" spc="-1" strike="noStrike">
                <a:solidFill>
                  <a:srgbClr val="000000"/>
                </a:solidFill>
                <a:latin typeface="Arial Unicode MS"/>
              </a:rPr>
              <a:t>by FS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914400" algn="ctr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3" marL="1371600" algn="ctr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4" marL="1828800" algn="ctr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Palatino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066680" y="15235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800" spc="-1" strike="noStrike">
                <a:solidFill>
                  <a:srgbClr val="000000"/>
                </a:solidFill>
                <a:latin typeface="Optima"/>
              </a:rPr>
              <a:t>Úvod do aplikačního serveru </a:t>
            </a:r>
            <a:r>
              <a:rPr b="1" lang="cs-CZ" sz="4800" spc="-1" strike="noStrike">
                <a:solidFill>
                  <a:srgbClr val="000000"/>
                </a:solidFill>
                <a:latin typeface="Optima"/>
              </a:rPr>
              <a:t>Zop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1143000" y="3809880"/>
            <a:ext cx="7772400" cy="2819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Palatino"/>
              </a:rPr>
              <a:t>SLT2001</a:t>
            </a:r>
            <a:br>
              <a:rPr sz="36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94" name=""/>
          <p:cNvSpPr/>
          <p:nvPr/>
        </p:nvSpPr>
        <p:spPr>
          <a:xfrm>
            <a:off x="3809880" y="228600"/>
            <a:ext cx="4496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ttp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://www.zope.org/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Serv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synchronní multiprotokol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CGI, FastCGI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HTTP, XML-RPC (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rzy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SOAP), WebDAV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onit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lient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Python interface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a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Medus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(Sam Rushing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dobná architektura jako dva nejvýkonnější web servery: thttpd a Zeu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1AB97-8698-48BD-8D3D-E95C898A1302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ZPublisher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vod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URL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na objekty a metody - 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 OR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Umožňuje 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novupou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žitelné objekty, které se prezentují prostřednictvím různých metod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jišťuje jednoduchý URL design: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br>
              <a:rPr sz="1400"/>
            </a:br>
            <a:br>
              <a:rPr sz="1400"/>
            </a:b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aději než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http://www.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firma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/cgi-bin/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zaměstnanci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.cgi?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ddělení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=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b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349"/>
              </a:spcBef>
              <a:buClr>
                <a:srgbClr val="000000"/>
              </a:buClr>
              <a:buFont typeface="Courier Ne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://www.firma.cz/cgi-bin/aplikace.cgi</a:t>
            </a:r>
            <a:br>
              <a:rPr sz="1400"/>
            </a:b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?id=123456?dotaz=zam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ě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</a:rPr>
              <a:t>stnanci</a:t>
            </a:r>
            <a:r>
              <a:rPr b="0" lang="cs-CZ" sz="1400" spc="-1" strike="noStrike">
                <a:solidFill>
                  <a:srgbClr val="000000"/>
                </a:solidFill>
                <a:latin typeface="Courier New"/>
              </a:rPr>
              <a:t>?oddělení=obchod</a:t>
            </a:r>
            <a:endParaRPr b="0" lang="en-US" sz="14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edávání proměnných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ývojář se nemusí starat o low level HTTP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B291F-AEFA-48F0-83B0-93D5EF2AE3A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Framework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oskytuje integrované prostředí pro design web prezentací a skripty vložené v HTML (Dokumentové šablony / DTML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ákladní třídy objekt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oubor, adresář, DTML metoda, DTML dokument, obrázek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lvl="3" marL="1568160" indent="-22392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SQL metody, Z Search Interface, Z Catalog, Version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Rozšiřování novými třídami (ZClasse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abudovaná správa autorizací (přístupových práv), napojení na různé systémy pro správu identit, identifikací a autentizací uživatelů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A7959-9ED5-401A-AEC5-DA69296027D3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Zope management mode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pe je designován pro správu pomocí web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n málo operací (např. přidávání produktů) vyžaduje přístup k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sah není „rozeset“ po file systém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voupanelové UI podobně jako Windows Explorer,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HTML 3.2 s JavaScript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ostupný na: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http://server.cz/. . ./manag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ut, Copy, Paste, Rename, Export, Impor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CA77F-ACD1-4C45-9829-6A60230C8F33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Integrované prostředí - správa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0" name="MGM_wholeMang" descr=""/>
          <p:cNvPicPr/>
          <p:nvPr/>
        </p:nvPicPr>
        <p:blipFill>
          <a:blip r:embed="rId1"/>
          <a:stretch/>
        </p:blipFill>
        <p:spPr>
          <a:xfrm>
            <a:off x="3276720" y="1600200"/>
            <a:ext cx="4800600" cy="4629240"/>
          </a:xfrm>
          <a:prstGeom prst="rect">
            <a:avLst/>
          </a:prstGeom>
          <a:ln w="0">
            <a:noFill/>
          </a:ln>
        </p:spPr>
      </p:pic>
      <p:pic>
        <p:nvPicPr>
          <p:cNvPr id="121" name="LHS_manage_ui_w_default_content" descr=""/>
          <p:cNvPicPr/>
          <p:nvPr/>
        </p:nvPicPr>
        <p:blipFill>
          <a:blip r:embed="rId2"/>
          <a:stretch/>
        </p:blipFill>
        <p:spPr>
          <a:xfrm>
            <a:off x="1219320" y="1600200"/>
            <a:ext cx="1617480" cy="4648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13EC8-C970-420D-85DB-025F86A60CC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Jednoduché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Editace index_html objek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24" name="Z2Content_Title" descr=""/>
          <p:cNvPicPr/>
          <p:nvPr/>
        </p:nvPicPr>
        <p:blipFill>
          <a:blip r:embed="rId1"/>
          <a:stretch/>
        </p:blipFill>
        <p:spPr>
          <a:xfrm>
            <a:off x="3581280" y="2057400"/>
            <a:ext cx="5402520" cy="46864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3F6C81-FFEE-4CB4-B5E6-D5EA386071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omplikovanější DTM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26" name="Z2dtml_sample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7772400" cy="4800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4DAF7-3F52-45A5-B540-8FBC993ED8C9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bjek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 - data, kód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obsahuje základní třídy objekt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kontejnerové - např. adresář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8520" indent="-2570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rosté - např. soubo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Atribu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stan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bjektová perzistence - automat. aktiv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-30852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ython Clas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852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835C-BAC4-4F16-B0F6-307A13E1E2B4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tributy objektu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29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ytvoření atributu contact_email Accounting adresář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31" name="Z2Content_prop" descr=""/>
          <p:cNvPicPr/>
          <p:nvPr/>
        </p:nvPicPr>
        <p:blipFill>
          <a:blip r:embed="rId1"/>
          <a:stretch/>
        </p:blipFill>
        <p:spPr>
          <a:xfrm>
            <a:off x="2895480" y="2590920"/>
            <a:ext cx="6096240" cy="41148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087D4-88A0-4F9E-A950-41DBBAAC45BC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ědičnost a získávání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řirozené (geny - DNA) / výchova (různé chování v závislosti na prostředí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ískávání od předků - hierarchie instancí (chování objektu v závislosti na umístění) objekt je v objektu …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ědění v rámci hierarchie tříd (funkcionalita objektu) - objekt je kategorie ..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4C099-7572-4DC2-9A10-21C72B851D3F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Co je to Zope ?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P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ední Open Source aplikační server, specializovaný na interaktivní obsah (správa obsahu, portály)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Web, ftp, WebDAV, XML-RPC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ypertext procesor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- DTM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ORB (Object-Request Broker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Objektový transak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Integra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ční server - provázání s RDBM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utorizační server - správa práv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stý SQL relační databázový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96416-294D-4385-B80F-0B2BC42BFEA7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e sv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é třetí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major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i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(ZODBv3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Transparentní správa cach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PI, dotazovací jazyk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lně transakční databáze s distribuovaným commit, dvoufázový commi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(Zope Enterprise Option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e ODB integrovány s RDBM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ubtransakc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Transakci nad mnoha objekty lze rozdělit na menší části (zapisovat do FS po částech)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Verze (long running transactions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Úplné undo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4388D-428F-4AB5-8AAA-C6ED7F5ABB6D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erz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možňují připravovat změny na produkčním webu a přitom privát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ovou podobu prezentace / aplikace není potřeba připravovat odděleně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vedení nové verze prezentace / aplikace jen commitem ver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otvrzování změn po částech, možnost návra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1BE2-E124-4C4D-9B64-0A9D4B6C5D9B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Mnohaúrovňové Undo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stupné všechny transakce od poslední komprimace objektové databáz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18960" indent="-31896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ndo neohrožuje objektovou integr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0" name="Z2Content_Undo" descr=""/>
          <p:cNvPicPr/>
          <p:nvPr/>
        </p:nvPicPr>
        <p:blipFill>
          <a:blip r:embed="rId1"/>
          <a:stretch/>
        </p:blipFill>
        <p:spPr>
          <a:xfrm>
            <a:off x="5105520" y="3124080"/>
            <a:ext cx="3848040" cy="344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B0759-0CC1-4F0C-A3C5-A155DE1CD7D3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yhledávání v ODB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213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de jsem použil tento atribut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Co bylo modifikováno od včerejška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43" name="MGM_find" descr=""/>
          <p:cNvPicPr/>
          <p:nvPr/>
        </p:nvPicPr>
        <p:blipFill>
          <a:blip r:embed="rId1"/>
          <a:stretch/>
        </p:blipFill>
        <p:spPr>
          <a:xfrm>
            <a:off x="4114800" y="2362320"/>
            <a:ext cx="4876920" cy="420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FCD56F-60A2-40C8-82DD-17DE779F10ED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ealizují vyspělou integraci s relačními da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ynamické generování dotaz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Transparetní caching výsledk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ýsledky SQL dotazu jsou objekty, mají funkcionalit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Nezávislé na konkrétním DB Engin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ány s hlavními DB technologi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3AD4B-0714-4E3F-B9B2-5DDD7FBE9787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SQL integrace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12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konektivit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DBMS obsah je integrován s obsahem adresář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eparace správce obsahu a DB administráto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1219320" y="4495680"/>
            <a:ext cx="7619400" cy="1679760"/>
            <a:chOff x="1219320" y="4495680"/>
            <a:chExt cx="7619400" cy="1679760"/>
          </a:xfrm>
        </p:grpSpPr>
        <p:grpSp>
          <p:nvGrpSpPr>
            <p:cNvPr id="149" name=""/>
            <p:cNvGrpSpPr/>
            <p:nvPr/>
          </p:nvGrpSpPr>
          <p:grpSpPr>
            <a:xfrm>
              <a:off x="1219320" y="5388120"/>
              <a:ext cx="1647360" cy="411840"/>
              <a:chOff x="1219320" y="5388120"/>
              <a:chExt cx="1647360" cy="411840"/>
            </a:xfrm>
          </p:grpSpPr>
          <p:sp>
            <p:nvSpPr>
              <p:cNvPr id="150" name=""/>
              <p:cNvSpPr/>
              <p:nvPr/>
            </p:nvSpPr>
            <p:spPr>
              <a:xfrm>
                <a:off x="1219320" y="5388120"/>
                <a:ext cx="1647360" cy="41184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1289520" y="5453640"/>
                <a:ext cx="80388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RDBMS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2" name=""/>
            <p:cNvGrpSpPr/>
            <p:nvPr/>
          </p:nvGrpSpPr>
          <p:grpSpPr>
            <a:xfrm>
              <a:off x="4926240" y="4495680"/>
              <a:ext cx="1304280" cy="307080"/>
              <a:chOff x="4926240" y="4495680"/>
              <a:chExt cx="1304280" cy="307080"/>
            </a:xfrm>
          </p:grpSpPr>
          <p:sp>
            <p:nvSpPr>
              <p:cNvPr id="153" name=""/>
              <p:cNvSpPr/>
              <p:nvPr/>
            </p:nvSpPr>
            <p:spPr>
              <a:xfrm>
                <a:off x="4926240" y="4495680"/>
                <a:ext cx="1304280" cy="27432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4926240" y="4495680"/>
                <a:ext cx="127044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400" spc="-1" strike="noStrike">
                    <a:solidFill>
                      <a:srgbClr val="000000"/>
                    </a:solidFill>
                    <a:latin typeface="Times New Roman"/>
                  </a:rPr>
                  <a:t>Z SQL Method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5" name=""/>
            <p:cNvGrpSpPr/>
            <p:nvPr/>
          </p:nvGrpSpPr>
          <p:grpSpPr>
            <a:xfrm>
              <a:off x="2866680" y="4975920"/>
              <a:ext cx="2059200" cy="965520"/>
              <a:chOff x="2866680" y="4975920"/>
              <a:chExt cx="2059200" cy="965520"/>
            </a:xfrm>
          </p:grpSpPr>
          <p:grpSp>
            <p:nvGrpSpPr>
              <p:cNvPr id="156" name=""/>
              <p:cNvGrpSpPr/>
              <p:nvPr/>
            </p:nvGrpSpPr>
            <p:grpSpPr>
              <a:xfrm>
                <a:off x="3621600" y="5456520"/>
                <a:ext cx="1304280" cy="484920"/>
                <a:chOff x="3621600" y="5456520"/>
                <a:chExt cx="1304280" cy="484920"/>
              </a:xfrm>
            </p:grpSpPr>
            <p:sp>
              <p:nvSpPr>
                <p:cNvPr id="157" name=""/>
                <p:cNvSpPr/>
                <p:nvPr/>
              </p:nvSpPr>
              <p:spPr>
                <a:xfrm>
                  <a:off x="3621600" y="5456520"/>
                  <a:ext cx="1304280" cy="4798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3629160" y="548244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native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59" name=""/>
              <p:cNvGrpSpPr/>
              <p:nvPr/>
            </p:nvGrpSpPr>
            <p:grpSpPr>
              <a:xfrm>
                <a:off x="3621600" y="4975920"/>
                <a:ext cx="1304280" cy="484560"/>
                <a:chOff x="3621600" y="4975920"/>
                <a:chExt cx="1304280" cy="484560"/>
              </a:xfrm>
            </p:grpSpPr>
            <p:sp>
              <p:nvSpPr>
                <p:cNvPr id="160" name=""/>
                <p:cNvSpPr/>
                <p:nvPr/>
              </p:nvSpPr>
              <p:spPr>
                <a:xfrm>
                  <a:off x="3621600" y="4975920"/>
                  <a:ext cx="1304280" cy="4802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>
                  <a:off x="3629160" y="5001480"/>
                  <a:ext cx="1264320" cy="4590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Oracle (ODBC)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Times New Roman"/>
                    </a:rPr>
                    <a:t>Database Adapter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2866680" y="5525280"/>
                <a:ext cx="686520" cy="246240"/>
                <a:chOff x="2866680" y="5525280"/>
                <a:chExt cx="686520" cy="246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2866680" y="5525280"/>
                  <a:ext cx="68652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IPC/RPC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2935080" y="5525280"/>
                  <a:ext cx="54900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65" name=""/>
            <p:cNvGrpSpPr/>
            <p:nvPr/>
          </p:nvGrpSpPr>
          <p:grpSpPr>
            <a:xfrm>
              <a:off x="7466040" y="4564080"/>
              <a:ext cx="1372680" cy="549360"/>
              <a:chOff x="7466040" y="4564080"/>
              <a:chExt cx="1372680" cy="549360"/>
            </a:xfrm>
          </p:grpSpPr>
          <p:sp>
            <p:nvSpPr>
              <p:cNvPr id="166" name=""/>
              <p:cNvSpPr/>
              <p:nvPr/>
            </p:nvSpPr>
            <p:spPr>
              <a:xfrm>
                <a:off x="7466040" y="4564080"/>
                <a:ext cx="1372680" cy="549360"/>
              </a:xfrm>
              <a:prstGeom prst="rect">
                <a:avLst/>
              </a:prstGeom>
              <a:noFill/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7466040" y="4609800"/>
                <a:ext cx="135648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Other Zope Server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Times New Roman"/>
                  </a:rPr>
                  <a:t>XML/RPC Client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68" name=""/>
            <p:cNvGrpSpPr/>
            <p:nvPr/>
          </p:nvGrpSpPr>
          <p:grpSpPr>
            <a:xfrm>
              <a:off x="4926240" y="4770000"/>
              <a:ext cx="3912480" cy="1304640"/>
              <a:chOff x="4926240" y="4770000"/>
              <a:chExt cx="3912480" cy="1304640"/>
            </a:xfrm>
          </p:grpSpPr>
          <p:grpSp>
            <p:nvGrpSpPr>
              <p:cNvPr id="169" name=""/>
              <p:cNvGrpSpPr/>
              <p:nvPr/>
            </p:nvGrpSpPr>
            <p:grpSpPr>
              <a:xfrm>
                <a:off x="4926240" y="4770000"/>
                <a:ext cx="1304280" cy="1304640"/>
                <a:chOff x="4926240" y="4770000"/>
                <a:chExt cx="1304280" cy="1304640"/>
              </a:xfrm>
            </p:grpSpPr>
            <p:sp>
              <p:nvSpPr>
                <p:cNvPr id="170" name=""/>
                <p:cNvSpPr/>
                <p:nvPr/>
              </p:nvSpPr>
              <p:spPr>
                <a:xfrm>
                  <a:off x="4926240" y="4770000"/>
                  <a:ext cx="130428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1" name=""/>
                <p:cNvSpPr/>
                <p:nvPr/>
              </p:nvSpPr>
              <p:spPr>
                <a:xfrm>
                  <a:off x="4926240" y="5250600"/>
                  <a:ext cx="1272600" cy="5202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Zope Framework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2" name=""/>
              <p:cNvGrpSpPr/>
              <p:nvPr/>
            </p:nvGrpSpPr>
            <p:grpSpPr>
              <a:xfrm>
                <a:off x="6573600" y="5319360"/>
                <a:ext cx="823680" cy="246240"/>
                <a:chOff x="6573600" y="5319360"/>
                <a:chExt cx="823680" cy="246240"/>
              </a:xfrm>
            </p:grpSpPr>
            <p:sp>
              <p:nvSpPr>
                <p:cNvPr id="173" name=""/>
                <p:cNvSpPr/>
                <p:nvPr/>
              </p:nvSpPr>
              <p:spPr>
                <a:xfrm>
                  <a:off x="6642000" y="5319360"/>
                  <a:ext cx="686160" cy="2462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http/https</a:t>
                  </a:r>
                  <a:endParaRPr b="0" lang="en-US" sz="10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4" name=""/>
                <p:cNvSpPr/>
                <p:nvPr/>
              </p:nvSpPr>
              <p:spPr>
                <a:xfrm>
                  <a:off x="6573600" y="5319360"/>
                  <a:ext cx="82368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headEnd len="med" type="triangle" w="med"/>
                  <a:tailEnd len="med" type="triangle" w="med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5" name=""/>
              <p:cNvGrpSpPr/>
              <p:nvPr/>
            </p:nvGrpSpPr>
            <p:grpSpPr>
              <a:xfrm>
                <a:off x="6230520" y="4770000"/>
                <a:ext cx="307080" cy="1304640"/>
                <a:chOff x="6230520" y="4770000"/>
                <a:chExt cx="307080" cy="1304640"/>
              </a:xfrm>
            </p:grpSpPr>
            <p:sp>
              <p:nvSpPr>
                <p:cNvPr id="176" name=""/>
                <p:cNvSpPr/>
                <p:nvPr/>
              </p:nvSpPr>
              <p:spPr>
                <a:xfrm>
                  <a:off x="6230520" y="4770000"/>
                  <a:ext cx="273960" cy="130464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77" name=""/>
                <p:cNvSpPr/>
                <p:nvPr/>
              </p:nvSpPr>
              <p:spPr>
                <a:xfrm rot="16200000">
                  <a:off x="6108480" y="5178240"/>
                  <a:ext cx="5511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httpd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78" name=""/>
              <p:cNvGrpSpPr/>
              <p:nvPr/>
            </p:nvGrpSpPr>
            <p:grpSpPr>
              <a:xfrm>
                <a:off x="7466040" y="5181840"/>
                <a:ext cx="1372680" cy="329760"/>
                <a:chOff x="7466040" y="5181840"/>
                <a:chExt cx="1372680" cy="329760"/>
              </a:xfrm>
            </p:grpSpPr>
            <p:sp>
              <p:nvSpPr>
                <p:cNvPr id="179" name=""/>
                <p:cNvSpPr/>
                <p:nvPr/>
              </p:nvSpPr>
              <p:spPr>
                <a:xfrm>
                  <a:off x="7466040" y="5181840"/>
                  <a:ext cx="1372680" cy="274680"/>
                </a:xfrm>
                <a:prstGeom prst="rect">
                  <a:avLst/>
                </a:prstGeom>
                <a:noFill/>
                <a:ln w="1260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0" name=""/>
                <p:cNvSpPr/>
                <p:nvPr/>
              </p:nvSpPr>
              <p:spPr>
                <a:xfrm>
                  <a:off x="7466040" y="5204520"/>
                  <a:ext cx="13564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Web browser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  <p:grpSp>
          <p:nvGrpSpPr>
            <p:cNvPr id="181" name=""/>
            <p:cNvGrpSpPr/>
            <p:nvPr/>
          </p:nvGrpSpPr>
          <p:grpSpPr>
            <a:xfrm>
              <a:off x="2935440" y="5044680"/>
              <a:ext cx="709560" cy="1130760"/>
              <a:chOff x="2935440" y="5044680"/>
              <a:chExt cx="709560" cy="1130760"/>
            </a:xfrm>
          </p:grpSpPr>
          <p:grpSp>
            <p:nvGrpSpPr>
              <p:cNvPr id="182" name=""/>
              <p:cNvGrpSpPr/>
              <p:nvPr/>
            </p:nvGrpSpPr>
            <p:grpSpPr>
              <a:xfrm>
                <a:off x="3003840" y="5044680"/>
                <a:ext cx="517320" cy="307080"/>
                <a:chOff x="3003840" y="5044680"/>
                <a:chExt cx="517320" cy="307080"/>
              </a:xfrm>
            </p:grpSpPr>
            <p:sp>
              <p:nvSpPr>
                <p:cNvPr id="183" name=""/>
                <p:cNvSpPr/>
                <p:nvPr/>
              </p:nvSpPr>
              <p:spPr>
                <a:xfrm>
                  <a:off x="3005280" y="5044680"/>
                  <a:ext cx="515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SQL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4" name=""/>
                <p:cNvSpPr/>
                <p:nvPr/>
              </p:nvSpPr>
              <p:spPr>
                <a:xfrm flipH="1">
                  <a:off x="3003840" y="5044680"/>
                  <a:ext cx="4118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85" name=""/>
              <p:cNvGrpSpPr/>
              <p:nvPr/>
            </p:nvGrpSpPr>
            <p:grpSpPr>
              <a:xfrm>
                <a:off x="2935440" y="5868360"/>
                <a:ext cx="709560" cy="307080"/>
                <a:chOff x="2935440" y="5868360"/>
                <a:chExt cx="709560" cy="307080"/>
              </a:xfrm>
            </p:grpSpPr>
            <p:sp>
              <p:nvSpPr>
                <p:cNvPr id="186" name=""/>
                <p:cNvSpPr/>
                <p:nvPr/>
              </p:nvSpPr>
              <p:spPr>
                <a:xfrm>
                  <a:off x="2935440" y="5868360"/>
                  <a:ext cx="70956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400" spc="-1" strike="noStrike">
                      <a:solidFill>
                        <a:srgbClr val="000000"/>
                      </a:solidFill>
                      <a:latin typeface="Times New Roman"/>
                    </a:rPr>
                    <a:t>Results</a:t>
                  </a:r>
                  <a:endParaRPr b="0" lang="en-US" sz="1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87" name=""/>
                <p:cNvSpPr/>
                <p:nvPr/>
              </p:nvSpPr>
              <p:spPr>
                <a:xfrm>
                  <a:off x="3003840" y="5868360"/>
                  <a:ext cx="480240" cy="0"/>
                </a:xfrm>
                <a:prstGeom prst="line">
                  <a:avLst/>
                </a:prstGeom>
                <a:ln w="12600">
                  <a:solidFill>
                    <a:srgbClr val="000000"/>
                  </a:solidFill>
                  <a:miter/>
                  <a:tailEnd len="sm" type="triangle" w="sm"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E839C-EF20-499F-8DE9-6509EDA7E278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říklad ZSQL Metod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327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Jednoduchý příklad</a:t>
            </a:r>
            <a:br>
              <a:rPr sz="32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ELECT * FROM employees WHERE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sn = &lt;dtml-var ssn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sqlMakeLoanPayment</a:t>
            </a:r>
            <a:br>
              <a:rPr sz="3200"/>
            </a:br>
            <a:r>
              <a:rPr b="0" lang="en-US" sz="1600" spc="-1" strike="noStrike">
                <a:solidFill>
                  <a:srgbClr val="000000"/>
                </a:solidFill>
                <a:latin typeface="Courier New"/>
              </a:rPr>
              <a:t>UPDATE account SET balance = balance - &lt;dtml-var payment&gt;</a:t>
            </a:r>
            <a:br>
              <a:rPr sz="20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&lt;dtml-var sql_delimiter&gt;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PDATE loan SET balance = balance - &lt;dtml-var payment&gt;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pic>
        <p:nvPicPr>
          <p:cNvPr id="190" name="RDBMS_query" descr=""/>
          <p:cNvPicPr/>
          <p:nvPr/>
        </p:nvPicPr>
        <p:blipFill>
          <a:blip r:embed="rId1"/>
          <a:stretch/>
        </p:blipFill>
        <p:spPr>
          <a:xfrm>
            <a:off x="4648320" y="3784680"/>
            <a:ext cx="4495680" cy="3073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F1A1B8-5FFF-4476-A3AE-552908DDA751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ezpeč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84872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bustní řešení bezpečnosti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díl mezi uživateli, rolemi a práv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živatelé mohou mít role i v lokálním kontextu s granularitou na úrovni objekt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Hierarchie uživatelů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právce obsahu, vývojář aplikační logika, správce relační DB SQL metody, administrátor aplikační serv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6D038-82F6-4B62-83DA-22ECBC14A7D1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áva a rol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94" name="MGM_Security" descr=""/>
          <p:cNvPicPr/>
          <p:nvPr/>
        </p:nvPicPr>
        <p:blipFill>
          <a:blip r:embed="rId1"/>
          <a:stretch/>
        </p:blipFill>
        <p:spPr>
          <a:xfrm>
            <a:off x="1143000" y="1143000"/>
            <a:ext cx="6324480" cy="5477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2CA67-2D3D-49A6-81D7-CBFA6400B3CC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Roz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š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ř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itel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Zope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je modularizován na produ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essionManager, SQLSession, FSSessi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catalog, Ultraseek DA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GadflyDA, ZPyGreSQLDA, ZOracleDA, ...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LDAPAdapter, UserFold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COMObject, XML Document, ZCalenda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METools, Portal Toolki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WorldPilot http://www.worldpilot.or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Class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Externí Python metod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5A3F-9271-493B-8EFF-80EF031D0C88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Kde se vzal, z čeho je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143000" y="1142640"/>
            <a:ext cx="7772400" cy="571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igital Creations Inc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kušenosti v oblasti aplikačních server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ope je akuálně zralý produk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usiness model s Open Source a venture kapitá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aložen na Pythonu - „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executable pseudo-code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“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vládnutelný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88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Pytho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45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 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(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PHP4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ód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~150K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řádků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C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dodává se na 2CD, distribuce cca 10MB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říve BOBO, Object Publisher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207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25463-8947-4837-B847-2B29093339EC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Distribuc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inárn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Linux tar.gz, RPM, Debian deb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Solaris Sparc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Microsoft Win3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drojová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Na jakoukoli platformu, kde je instalovaný Python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okumentace - Zope Guides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ocument Template Markup Language Reference 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Administrator's Guide, Content Manager's Guide, SQL Methods User's Guide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Zope How-Tos, Zope Tip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Developer Documentation (UML Models, ZClasses, External Methods, ZODB,ZPublisher, Acquisition, Zope Products, DOM, WebDAV, XML-RPC, ...)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B05A5-5C89-4C62-8232-070EEEC15915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Budoucnost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rodukt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Z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ZEO Zope Enterprise Option, OQ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Auditing, Nové metody úložiště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Optimalizace, Zamykání, Cross databas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Řešení konfliktů na aplikační úrovni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ované prostředí - Mozill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35480" indent="-28296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ython 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2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0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 – internacionalizace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Integrace s Perlem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E3EE3-2B81-4B32-A412-9386CCD2DC99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XUL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202" name="zopestudio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5343480" cy="3762360"/>
          </a:xfrm>
          <a:prstGeom prst="rect">
            <a:avLst/>
          </a:prstGeom>
          <a:ln w="0">
            <a:noFill/>
          </a:ln>
        </p:spPr>
      </p:pic>
      <p:pic>
        <p:nvPicPr>
          <p:cNvPr id="203" name="small_zope-manage" descr=""/>
          <p:cNvPicPr/>
          <p:nvPr/>
        </p:nvPicPr>
        <p:blipFill>
          <a:blip r:embed="rId2"/>
          <a:srcRect l="0" t="0" r="0" b="9894"/>
          <a:stretch/>
        </p:blipFill>
        <p:spPr>
          <a:xfrm>
            <a:off x="4724280" y="3352680"/>
            <a:ext cx="4191120" cy="3278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E8BAC-9AA4-4D58-A3EE-E9ADAC0514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zopestudio-rdf" descr=""/>
          <p:cNvPicPr/>
          <p:nvPr/>
        </p:nvPicPr>
        <p:blipFill>
          <a:blip r:embed="rId1"/>
          <a:srcRect l="0" t="7053" r="0" b="0"/>
          <a:stretch/>
        </p:blipFill>
        <p:spPr>
          <a:xfrm>
            <a:off x="990720" y="990720"/>
            <a:ext cx="6553080" cy="569124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200400" y="152280"/>
            <a:ext cx="5791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RDF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230E4-703B-4795-B052-13F0C021C6D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- Open Source Application S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rve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igital Creations Inc.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</a:t>
            </a: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p://www.digicoo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Weekly New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MikeP/ZWN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Solution Providers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ZSP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How-To: Getting Started With Zope</a:t>
            </a: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Members/klm/GettingStarted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logs.userland.com/zopeNewbies/faq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Zope Mailing List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Resources/MailingLists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331E0-CCE2-4443-8098-C0D2C47CB525}" type="slidenum">
              <a:t>34</a:t>
            </a:fld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2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ython - interpreted, interactive, object-oriented high-level programming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ython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 Perl Hacker in the Land of Pytho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byte.com/feature/BYT20000201S000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on Udell: Internet/Web solution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udell.roninhouse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Midgard - Application Server Suit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idgard-project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PHP - Hypertext Preprocessor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php.net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JSP - Java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java.sun.com/products/js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3677F-6916-4CEA-8315-F42BD67458A5}" type="slidenum">
              <a:t>35</a:t>
            </a:fld>
          </a:p>
        </p:txBody>
      </p:sp>
    </p:spTree>
  </p:cSld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3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TML - Document Template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zope.org/Documentation/Guides/D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CFML - Cold Fusion Markup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coldfusion.com/handlers/index.cfm?ID=13381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XML - RoXen Macro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roxen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ASP - Active Server Pages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msdn.microsoft.com/workshop/server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support.microsoft.com/support/default.asp?SD=SO&amp;PR=asp&amp;RLD=22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activescripting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FastCGI - Fast Common Gateway Interfac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fastcgi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7F1B9-0C2A-47FD-AAF9-7E1E1CDF3A66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4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 - Extensible Markup Language 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w3.org/XML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XMLRPC XML Remote Procedure Cal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Palatino"/>
              </a:rPr>
              <a:t>http://www.xmlrpc.c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WebDAV - Web-based Distributed Authoring and Versioning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ebdav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ics.uci.edu/~ejw/authorin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ebdav.zope.org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SOAP - Simple Object Access Protoco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IETF draft-box-http-soap-01.txt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develop.com/soap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2BD70-9EA7-41DA-A8A9-919DE925FAD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5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XUL - Extensible User-Interface Languag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mozilla.org/xpfe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3.sympatico.ca/ndeakin/mozilla/xultu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zvon.vscht.cz/HTMLonly/MozillaTutorial/General/book.html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RDF - Resource Description Framework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RDF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Arial"/>
              </a:rPr>
              <a:t>DOM - Document Object Mode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000" spc="-1" strike="noStrike">
                <a:solidFill>
                  <a:srgbClr val="000000"/>
                </a:solidFill>
                <a:latin typeface="Palatino"/>
              </a:rPr>
              <a:t>http://www.w3.org/DOM/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Java Script - ECMA Script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45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Palatino"/>
              </a:rPr>
              <a:t>http://www.ecma.ch/ECMA1/STAND/ECMA-262.HTM</a:t>
            </a:r>
            <a:endParaRPr b="0" lang="en-US" sz="1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F339A-0008-40D3-B86E-A2C4D7BEC066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Odkazy 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6/6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LDAP - Lightweight Directory Access Protocol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irectoryforum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openldap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innosoft.com/ldapworld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kingsmountain.com/ldapRoadmap.shtml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developer.netscape.com/tech/directory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SML - Directory Services Markup Language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http://www.dsml.org/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D1F2B-E4B8-444B-9411-D4B741E74F2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Podobn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é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 produkty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Allaire Cold Fusion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PHP - Hypertext Preprocesso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SP - Java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Xen Challenger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icrosoft IIS ASP - Active Server Page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55BB3-4E31-4865-9EB8-31004340D496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1066680" y="1066320"/>
            <a:ext cx="7925040" cy="1676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Optima"/>
              </a:rPr>
              <a:t>Diskuze</a:t>
            </a:r>
            <a:endParaRPr b="0" lang="en-US" sz="48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 type="subTitle"/>
          </p:nvPr>
        </p:nvSpPr>
        <p:spPr>
          <a:xfrm>
            <a:off x="1294920" y="2895480"/>
            <a:ext cx="7620120" cy="3733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Dotazy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Komentáře ?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ichal Mühlpachr</a:t>
            </a:r>
            <a:br>
              <a:rPr sz="2800"/>
            </a:b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0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D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ěkuji za pozor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Proč je Open Source důležitý ?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Udržení kontroly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Aktuálnost a relevatnost webové Internet prezentace jsou klíčové pro Váš úspěch.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Bohužel,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nejdůležitější pro dodavatele technologických řešení je </a:t>
            </a:r>
            <a:r>
              <a:rPr b="0" i="1" lang="cs-CZ" sz="2800" spc="-1" strike="noStrike">
                <a:solidFill>
                  <a:srgbClr val="000000"/>
                </a:solidFill>
                <a:latin typeface="Palatino"/>
              </a:rPr>
              <a:t>jeho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, ne </a:t>
            </a:r>
            <a:r>
              <a:rPr b="1" lang="cs-CZ" sz="2800" spc="-1" strike="noStrike">
                <a:solidFill>
                  <a:srgbClr val="000000"/>
                </a:solidFill>
                <a:latin typeface="Palatino"/>
              </a:rPr>
              <a:t>Váš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 byznys plán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ávo opravit, modifikovat, </a:t>
            </a:r>
            <a:r>
              <a:rPr b="0" lang="cs-CZ" sz="2800" spc="-1" strike="noStrike" u="sng">
                <a:solidFill>
                  <a:srgbClr val="000000"/>
                </a:solidFill>
                <a:uFillTx/>
                <a:latin typeface="Palatino"/>
              </a:rPr>
              <a:t>doplňovat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, distribuovat, zdrojový kód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Zope je zdarma.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Finan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ční prostředky lze investovat přímo pro řešení místo do licencí SW.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1D193-EADE-4CEE-B003-B9C21336E1A6}" type="slidenum">
              <a:t>5</a:t>
            </a:fld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Výhody 1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2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8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Jednoduchost, podpora standardů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dulární architektura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Mocný</a:t>
            </a:r>
            <a:r>
              <a:rPr b="0" lang="en-US" sz="3200" spc="-1" strike="noStrike">
                <a:solidFill>
                  <a:srgbClr val="000000"/>
                </a:solidFill>
                <a:latin typeface="Palatino"/>
              </a:rPr>
              <a:t> objektov</a:t>
            </a: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ý model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Vše přes web, integrovaná ODB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Řád převažuje nad chaosem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rozumitelné URLs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grace s externími daty, aplikacemi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 vyhledávání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á bezpeč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77885-B622-498A-88B4-DDC39D0B269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V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ýhody 2</a:t>
            </a: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/</a:t>
            </a: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43000" y="1143000"/>
            <a:ext cx="7848720" cy="5410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eparace rol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Delegace zodpovědnosti </a:t>
            </a:r>
            <a:r>
              <a:rPr b="0" lang="en-US" sz="2800" spc="-1" strike="noStrike">
                <a:solidFill>
                  <a:srgbClr val="000000"/>
                </a:solidFill>
                <a:latin typeface="Palatino"/>
              </a:rPr>
              <a:t>/ </a:t>
            </a: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ravomoc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Integrované prostředí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kutečné web objek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Komunita nadšenců 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ail listy cca 100 zpráv denně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rychlé proniknutí do technologie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vhoné pro jednoduché i složité řešení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možnost oddělení aplikace a ODB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Palatino"/>
              </a:rPr>
              <a:t>na běžném HW 1M hit</a:t>
            </a:r>
            <a:r>
              <a:rPr b="0" lang="en-US" sz="2400" spc="-1" strike="noStrike">
                <a:solidFill>
                  <a:srgbClr val="000000"/>
                </a:solidFill>
                <a:latin typeface="Palatino"/>
              </a:rPr>
              <a:t>/den</a:t>
            </a:r>
            <a:endParaRPr b="0" lang="en-US" sz="24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41706-0191-450A-A0CD-EBAB9497036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600" spc="-1" strike="noStrike">
                <a:solidFill>
                  <a:srgbClr val="000000"/>
                </a:solidFill>
                <a:latin typeface="Optima"/>
              </a:rPr>
              <a:t>Architektura Zope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pic>
        <p:nvPicPr>
          <p:cNvPr id="108" name="Zope_ArchitectureDiagram" descr=""/>
          <p:cNvPicPr/>
          <p:nvPr/>
        </p:nvPicPr>
        <p:blipFill>
          <a:blip r:embed="rId1"/>
          <a:stretch/>
        </p:blipFill>
        <p:spPr>
          <a:xfrm>
            <a:off x="1219320" y="1219320"/>
            <a:ext cx="7696080" cy="48067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04449-8713-4977-8524-D2B6DEE7097F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8280" y="0"/>
            <a:ext cx="65534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Optima"/>
              </a:rPr>
              <a:t>Architektura: Python</a:t>
            </a:r>
            <a:endParaRPr b="0" lang="en-US" sz="3600" spc="-1" strike="noStrike">
              <a:solidFill>
                <a:srgbClr val="000000"/>
              </a:solidFill>
              <a:latin typeface="Opti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42640" y="1143000"/>
            <a:ext cx="8001000" cy="55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Interpretovaný, interaktivní, objektově orientovaný, high-level programovací jazyk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Flexibilní, jednoduchý, mocný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Škálovatelnost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zvládá jednoduché i komplikované problém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příjemný jak pro začátečníky tak pro experty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Snadná údržba a čitelnost kódu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Palati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Palatino"/>
              </a:rPr>
              <a:t>Rozšiřitelnost, balíčky, moduly, knihovny</a:t>
            </a:r>
            <a:endParaRPr b="0" lang="en-US" sz="32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C API - moduly, SWIG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  <a:p>
            <a:pPr lvl="1" marL="660960" indent="-254160">
              <a:spcBef>
                <a:spcPts val="700"/>
              </a:spcBef>
              <a:buClr>
                <a:srgbClr val="000000"/>
              </a:buClr>
              <a:buFont typeface="Palatino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Palatino"/>
              </a:rPr>
              <a:t>Snadno použitelný z jiných prostředí (C, Java, ...)</a:t>
            </a:r>
            <a:endParaRPr b="0" lang="en-US" sz="2800" spc="-1" strike="noStrike">
              <a:solidFill>
                <a:srgbClr val="000000"/>
              </a:solidFill>
              <a:latin typeface="Palatino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AA664-7DE5-42A4-B2E1-04981479F43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7-29T21:58:06Z</dcterms:created>
  <dc:creator>Michal Mühlpachr</dc:creator>
  <dc:description/>
  <dc:language>en-US</dc:language>
  <cp:lastModifiedBy>Michal Mühlpachr</cp:lastModifiedBy>
  <cp:lastPrinted>1999-10-11T21:49:47Z</cp:lastPrinted>
  <dcterms:modified xsi:type="dcterms:W3CDTF">2001-02-16T17:11:28Z</dcterms:modified>
  <cp:revision>76</cp:revision>
  <dc:subject/>
  <dc:title>Zope Overview</dc:title>
</cp:coreProperties>
</file>