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744454"/>
        <c:axId val="81316668"/>
      </c:barChart>
      <c:catAx>
        <c:axId val="18744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16668"/>
        <c:crosses val="autoZero"/>
        <c:auto val="1"/>
        <c:lblAlgn val="ctr"/>
        <c:lblOffset val="100"/>
        <c:noMultiLvlLbl val="0"/>
      </c:catAx>
      <c:valAx>
        <c:axId val="813166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744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5CB-E837-44EE-9824-4ADE1764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65C-AA9C-4DE2-925D-1636BC69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D1F-2704-4526-9F9B-5DAD0F42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74C4-1CC6-4627-85E4-EC493D96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705F-7CD1-4831-86E5-A3432622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76EA-4F56-4FE3-AF74-6E2425E5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6CF-6AF0-4A83-AB82-BB5A7F56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0BC-1750-41D1-B6B5-F52D50B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B40-5EBA-4CBE-9054-550099D2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0390-43FE-4297-AD4A-1A7F831C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7A2-EC58-4B42-85F0-AC8A0D87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90D-D0EE-48C4-BD20-8EFD6D8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28A00-4B07-4C56-9D94-5A2F0DE2F2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