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87298"/>
        <c:axId val="77570230"/>
      </c:barChart>
      <c:catAx>
        <c:axId val="71087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70230"/>
        <c:crosses val="autoZero"/>
        <c:auto val="1"/>
        <c:lblAlgn val="ctr"/>
        <c:lblOffset val="100"/>
        <c:noMultiLvlLbl val="0"/>
      </c:catAx>
      <c:valAx>
        <c:axId val="77570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87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212-8F4A-4ED4-BF7B-515B441C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05D-1FE1-4AF9-A8CA-56E9B637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E3E-3440-4ADE-99A8-91E27963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502-E766-4206-8E6D-8923C6A0A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320-F519-4114-BA34-D3B3CBE7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4C0-6F91-4560-90AE-7A706B3C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3AC-1E53-4495-80A7-2F9591DA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F9E-EDE8-4EE7-8E99-7EADD326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697-EB2E-455D-B7B3-2758F2E9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BDB2-2132-4791-B682-A780FDFB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1AF8-48B1-47ED-815E-A8BEE178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402-1EE4-440A-998B-AFACA0E4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A4286-A6E6-4EAF-8EF9-83A3231AD5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