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040023"/>
        <c:axId val="59577469"/>
      </c:barChart>
      <c:catAx>
        <c:axId val="310400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77469"/>
        <c:crosses val="autoZero"/>
        <c:auto val="1"/>
        <c:lblAlgn val="ctr"/>
        <c:lblOffset val="100"/>
        <c:noMultiLvlLbl val="0"/>
      </c:catAx>
      <c:valAx>
        <c:axId val="595774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400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58C8-D800-48CB-B801-789CF2A3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93CF-815C-4EB0-85E0-E87D34B6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AB51-7268-4FF2-9292-94604A03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2551-6294-4CB2-820D-D33ED436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C8C-49F1-4F4F-94FB-090FE5F6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B6FD-D145-4164-9770-AE5A6348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FEC2-C366-4A3D-888D-8D719E1B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B584-D065-4885-B290-80324FB4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2B27-053C-4692-8EA6-6EA4AA0A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FF46-A388-47E0-8864-63F0C427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BBB4-A45E-4224-9560-97F48F63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3F1A-A96E-4A9E-B67F-E98FCDFC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B0DA0-71AD-401B-ABF3-3EB54E05E5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