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21508"/>
        <c:axId val="45426388"/>
      </c:barChart>
      <c:catAx>
        <c:axId val="64821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26388"/>
        <c:crosses val="autoZero"/>
        <c:auto val="1"/>
        <c:lblAlgn val="ctr"/>
        <c:lblOffset val="100"/>
        <c:noMultiLvlLbl val="0"/>
      </c:catAx>
      <c:valAx>
        <c:axId val="45426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21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43D-D02D-4EDA-9008-676A1853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B98-2782-4428-8DBA-6E3C9C72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4EA-B19B-442E-A221-610A1D24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D28-B475-4F61-A541-EAD94C47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D7C-040B-4AB6-BC15-1709855C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264-199D-40CA-9D40-9FEB87BC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D8A-C7D6-484B-898F-81906517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A77-2FF0-4ED2-8DE4-1622A829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906-7301-4A98-81AB-BEFD0248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4E6-03F6-4900-AFEB-2B8DE6D4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2E0-2A84-4998-9AB0-D247E740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C49-FAAA-47F2-9F8A-87527C57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E3E6E-678F-46AE-88BD-AC8872A924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