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87866"/>
        <c:axId val="83778158"/>
      </c:barChart>
      <c:catAx>
        <c:axId val="64087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8158"/>
        <c:crosses val="autoZero"/>
        <c:auto val="1"/>
        <c:lblAlgn val="ctr"/>
        <c:lblOffset val="100"/>
        <c:noMultiLvlLbl val="0"/>
      </c:catAx>
      <c:valAx>
        <c:axId val="83778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7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468-341A-4784-97CE-9DAFB441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009-40D6-46BB-8665-9EC314DB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B31-6013-46BE-BBF5-C2DE8D4B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B62-1FE9-461E-9043-71597600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B39-2768-4E0C-B8B4-DFAC6E2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864-EB01-486A-AE40-C5D66921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C53-C700-4183-B3B2-2937BDB6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E70-7FD7-4E2C-AE7D-DE5D38BE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8AE-1D16-4973-83DA-7428D3CF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2AF-2B79-4DDD-BC9D-AE08554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2A5-BD29-4A38-A5B4-23253CE9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DB1-4618-4BB7-9C5A-73CA352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55612-2294-44F3-A238-5AA123B2EF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