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27711"/>
        <c:axId val="82925801"/>
      </c:barChart>
      <c:catAx>
        <c:axId val="53227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25801"/>
        <c:crosses val="autoZero"/>
        <c:auto val="1"/>
        <c:lblAlgn val="ctr"/>
        <c:lblOffset val="100"/>
        <c:noMultiLvlLbl val="0"/>
      </c:catAx>
      <c:valAx>
        <c:axId val="82925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27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65F-6B14-46E1-B2D8-7EBA2B4F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15D-25BA-4FEF-ACDE-7DB4A554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352-F6F3-4B5A-8CE9-A99824BA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184-878C-402E-9491-29439021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BC7-FF95-4A59-A585-15622BF1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13A-8797-41C8-B486-CC5192B8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0F0-E80C-4E2D-9DC5-E2801FD6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0AC-BC55-4DB1-B55C-896CBD38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B265-93CA-4C6E-87C3-46F0DE5B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6343-B070-4CD4-88B0-BFC649FA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1F7-562B-436A-8945-8877758C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ECE-CB36-4066-9330-474F6026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09656-3CD2-4648-9B9D-BAAED16676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