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74553"/>
        <c:axId val="44736450"/>
      </c:barChart>
      <c:catAx>
        <c:axId val="901745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36450"/>
        <c:crosses val="autoZero"/>
        <c:auto val="1"/>
        <c:lblAlgn val="ctr"/>
        <c:lblOffset val="100"/>
        <c:noMultiLvlLbl val="0"/>
      </c:catAx>
      <c:valAx>
        <c:axId val="44736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745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DFF-9CB1-4299-BF4A-BC6ACD0F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4CE-E8AC-41E4-91D2-AF0EA1AD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F09-4F3B-45C4-8B98-0D7344FD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A7F7-8E21-47E9-B0F5-E3BD82A9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6EF-5A76-49DF-8A74-37591DE2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FE7-35A9-4277-A3D4-366D1500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803-F7E9-4AEE-8C04-3F849E7A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482-A8BB-40F4-B886-C93AA23E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4B5-D82D-4A65-9371-39527AF6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36B-019C-4B19-9B3D-615CD82D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168-65B9-438F-B202-AA8F07C8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474-70E9-41FE-82E6-8427AA8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5ED1-CD78-48E3-898E-E49480152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