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79058"/>
        <c:axId val="97545551"/>
      </c:barChart>
      <c:catAx>
        <c:axId val="34379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45551"/>
        <c:crosses val="autoZero"/>
        <c:auto val="1"/>
        <c:lblAlgn val="ctr"/>
        <c:lblOffset val="100"/>
        <c:noMultiLvlLbl val="0"/>
      </c:catAx>
      <c:valAx>
        <c:axId val="97545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79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C5A-C2D4-4717-97E5-ECCE561D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B40-1CCE-4C1B-ADD7-E00CDECC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AD9-A358-40D0-AAB3-6ABF4BD7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13A-31E5-4532-8289-97A52513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B6C-3005-4055-889F-ED0F7B52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8DE-3398-4441-9CF1-17663A5E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295-5A0F-46FF-A47B-C5D28949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71C-810D-41F8-946B-57016A75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5C3-F895-44CF-B78F-4D9549C9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C4F-400E-4A20-8CE9-283110F0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050-11AA-4B57-99C8-3734ED1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57A-639F-4582-9854-BD5C8B76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84C88-AD00-4B19-9B58-EC8E566489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