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78332"/>
        <c:axId val="36891530"/>
      </c:barChart>
      <c:catAx>
        <c:axId val="14478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91530"/>
        <c:crosses val="autoZero"/>
        <c:auto val="1"/>
        <c:lblAlgn val="ctr"/>
        <c:lblOffset val="100"/>
        <c:noMultiLvlLbl val="0"/>
      </c:catAx>
      <c:valAx>
        <c:axId val="36891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78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E24-EED7-484D-B623-57937A73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487-6E23-49B0-8C8B-2F32BD41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231-8A60-4ECE-8EBC-34E2A226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65D-B55A-4DD3-BA2D-701F6891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91F-6615-4B8C-8037-1A7C0C19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DE6-3E48-4CD1-ACD3-9DF17171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0F9-2845-4BDB-8606-748CD9D7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372-8EE4-4922-986F-2662340C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A86-7E92-468D-8E81-F6919326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9A0-C395-49F5-9B9D-B7F6D2C9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A93-EC79-4FF3-B68A-50FAB7AE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15D-9039-4280-8048-4E94FCF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2EF02-FC56-4340-A845-AB1212E87E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