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404061"/>
        <c:axId val="80543116"/>
      </c:barChart>
      <c:catAx>
        <c:axId val="694040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43116"/>
        <c:crosses val="autoZero"/>
        <c:auto val="1"/>
        <c:lblAlgn val="ctr"/>
        <c:lblOffset val="100"/>
        <c:noMultiLvlLbl val="0"/>
      </c:catAx>
      <c:valAx>
        <c:axId val="805431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040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8D57-0F11-4F62-B2E4-07D9C7B8E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BD4F-4C5E-4049-93F6-0FE0D4B3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6CE6-B58D-4A30-A91D-D5601F39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5815-8DAF-41FA-B59F-AE15596D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E7B2-7D67-4CF0-AE2E-FAD86488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A9B8-1418-4169-807C-F72C895F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DEDB-335F-4F8E-ACA1-C2E9F26D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7339-309A-4967-BFA5-C7DC3CA1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F307-DC2D-4148-8323-BCF51DBA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DC3D-7FE2-4F4E-B479-BF0B9D06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9B6D-D3E4-4A4A-99BC-3BF39442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7343-C075-4B81-BF68-32890D2C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75933-891C-4BFD-8A4D-12ABD1D0D9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