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65659"/>
        <c:axId val="9910051"/>
      </c:barChart>
      <c:catAx>
        <c:axId val="79365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0051"/>
        <c:crosses val="autoZero"/>
        <c:auto val="1"/>
        <c:lblAlgn val="ctr"/>
        <c:lblOffset val="100"/>
        <c:noMultiLvlLbl val="0"/>
      </c:catAx>
      <c:valAx>
        <c:axId val="991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5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672-3268-4004-9EC1-EFD0F328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C73-0F31-4983-8783-75475032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6C5-19CE-4CB4-A225-4CBC26B9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511-31AD-47A1-A449-28E02C8C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F9D-9CC4-4647-819B-20A3FE9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E66-37FA-4487-BD42-77A041C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CBA-8664-4F74-97A8-50AC2850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DB3-BAF3-4245-96A3-54D2835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BAF-D012-495A-9624-3564AFC4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EF2-89A7-4DDD-8741-068A283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55A-7440-4913-94E5-D5A6169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B59-BD51-4586-93CA-0B6A85FF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66294-76F5-448B-B001-AFB89F84B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