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7789"/>
        <c:axId val="76779288"/>
      </c:barChart>
      <c:catAx>
        <c:axId val="91047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9288"/>
        <c:crosses val="autoZero"/>
        <c:auto val="1"/>
        <c:lblAlgn val="ctr"/>
        <c:lblOffset val="100"/>
        <c:noMultiLvlLbl val="0"/>
      </c:catAx>
      <c:valAx>
        <c:axId val="76779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7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EEC-EC94-463B-B5C1-20333D96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554-F1FE-4F63-8222-AFAF6ABD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07C-878E-4B81-AF4C-DBBC2625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0EA-AEB8-452F-8CFC-070E6B15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BD4-C375-42BB-9BBE-573BBEB4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D4A-99DC-42FB-B379-0AD0E0E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8C7-AB63-443B-9376-71AB1432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CDE-7533-4F93-84C4-51A7D56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4D5-3D03-49BB-BB32-97BAD6C8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06B-1351-48AC-9C38-EF891CF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926-E4AB-4560-91CE-DDF2860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B5B-37A5-47F1-A8AF-15B371F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07521-30AE-4145-A830-3E5E97901F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