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9058"/>
        <c:axId val="79120693"/>
      </c:barChart>
      <c:catAx>
        <c:axId val="867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0693"/>
        <c:crosses val="autoZero"/>
        <c:auto val="1"/>
        <c:lblAlgn val="ctr"/>
        <c:lblOffset val="100"/>
        <c:noMultiLvlLbl val="0"/>
      </c:catAx>
      <c:valAx>
        <c:axId val="79120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6E4-BB1A-45C2-BF4D-48160058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22D-01B3-4FFE-A74B-0B615984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7B6-20E5-4250-BC25-36EB287A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A0-2915-4BC2-BCBD-BDA69EFC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0AE-FB4A-4EFC-969F-260A06D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7CF-617B-464C-9E15-7E4A58E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F4B-DD5B-4730-A0C6-7AC0B3D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0B6-77AC-4737-B79C-4A03FCB4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FDC-9E93-4E56-A7AF-B98D6C7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68A-382B-4A34-B6C9-F894871D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5C8-4EF8-4340-B03A-4BB4F2B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030-F171-4D75-B173-F371DB3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6A164-158F-4321-A2BA-4081B03F0D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