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72803"/>
        <c:axId val="47483660"/>
      </c:barChart>
      <c:catAx>
        <c:axId val="55472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83660"/>
        <c:crosses val="autoZero"/>
        <c:auto val="1"/>
        <c:lblAlgn val="ctr"/>
        <c:lblOffset val="100"/>
        <c:noMultiLvlLbl val="0"/>
      </c:catAx>
      <c:valAx>
        <c:axId val="47483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72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D73-E8E8-4BFE-91F2-019A05B8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D6A-1732-465D-BAE5-25956EA2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364-BB4E-4D11-956D-3A035258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0A3-0E17-437F-B125-A1BD5D36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1E8-1C21-42F1-82E7-28D76ADA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9DE-8202-413E-B71F-5C048078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94E-D280-4AEB-B77A-9A06638C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2DC-10D0-4D6C-83BB-1730E140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6C2-B2B0-4300-835F-DC44199F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0C0-4CBD-43DC-BAE1-8AB268BF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3AE-5FF5-418F-871E-954FEB89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40B-5C9F-4D26-9880-EF425693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21540-79EC-47A9-AFC2-19C8709ADC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