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05887"/>
        <c:axId val="85743226"/>
      </c:barChart>
      <c:catAx>
        <c:axId val="77905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43226"/>
        <c:crosses val="autoZero"/>
        <c:auto val="1"/>
        <c:lblAlgn val="ctr"/>
        <c:lblOffset val="100"/>
        <c:noMultiLvlLbl val="0"/>
      </c:catAx>
      <c:valAx>
        <c:axId val="85743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05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48F-4EF4-40B7-B698-E6390771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86D-4392-40B3-ADA3-A2060D1D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65E-671A-43D4-A7C6-77024D7B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CE9-C2E7-4261-902C-F0732EE9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F3F-AD52-4157-B4E8-DEE15251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999-F573-4ACD-9C08-8920BB44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C7A-BE62-4BAE-B538-999AFF05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55C-EBED-4811-A667-D1530BF7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FA6-6923-4A84-8BAA-D1F0E4FA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784-6028-45CF-8E6D-6743E093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1E4-9F3B-4104-9500-EAF3FD04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C3A-E469-4497-9F44-B683CB0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F5889-AA0A-406E-91C2-B54660CFA9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