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11846"/>
        <c:axId val="48719933"/>
      </c:barChart>
      <c:catAx>
        <c:axId val="18111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19933"/>
        <c:crosses val="autoZero"/>
        <c:auto val="1"/>
        <c:lblAlgn val="ctr"/>
        <c:lblOffset val="100"/>
        <c:noMultiLvlLbl val="0"/>
      </c:catAx>
      <c:valAx>
        <c:axId val="48719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11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0F5-FCBB-4280-89C7-33CF52A2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F8B-B6C6-45D6-87AB-3AB0C6C7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6B3-1C17-4C37-8BCB-8E1A9AB1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D9A-034B-4E7E-9A1A-6625D954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B62-7B55-409E-BF3C-5F9EAFD7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53F-EBE6-43CF-AFDA-E576349B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2EA-D9C9-466C-9258-9B02BB05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368-0258-4C2C-BFA1-6279AD50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92B-99FD-4C4E-A0A0-B251AEEF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278-3818-4A31-89A0-DABD355B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06C-16FD-4E5C-86C0-F8C7E5A2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216-5144-4564-86E2-A31C89C8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60FD7-E15F-46A7-B01C-C3DB99DECF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