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45143"/>
        <c:axId val="54595485"/>
      </c:barChart>
      <c:catAx>
        <c:axId val="68845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95485"/>
        <c:crosses val="autoZero"/>
        <c:auto val="1"/>
        <c:lblAlgn val="ctr"/>
        <c:lblOffset val="100"/>
        <c:noMultiLvlLbl val="0"/>
      </c:catAx>
      <c:valAx>
        <c:axId val="54595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45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E66-A178-41FB-B034-0AB22296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83F-4F3C-4CD6-A763-6E585403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DE0-2846-4355-91B0-2C883C2D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EA3-CD7C-4E3B-96FF-56E2DDBE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D1A-C714-44A5-B90B-2FEB4E0C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CD4-A8AB-4DC0-8618-F5EDBF2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91B-F4E1-41E4-ADFB-7CBA5D89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6F4-CD12-4EA4-827A-9889F4AC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28B-6C37-428D-AA83-A1719EFD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DA8-2E21-4161-BF80-23E49A94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42E-2262-4F18-8982-5DD2C931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022-1F17-4D7D-8508-2C24C6C3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6F224-7951-479F-9EC7-564850EFBA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