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64467"/>
        <c:axId val="52668717"/>
      </c:barChart>
      <c:catAx>
        <c:axId val="59664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68717"/>
        <c:crosses val="autoZero"/>
        <c:auto val="1"/>
        <c:lblAlgn val="ctr"/>
        <c:lblOffset val="100"/>
        <c:noMultiLvlLbl val="0"/>
      </c:catAx>
      <c:valAx>
        <c:axId val="52668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64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9DB-BDA1-4CAB-B39F-0A455DB1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BE5-F4F6-42A2-8CE6-BBE7C5F3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5A5-0EF2-4EC6-AB39-89B97639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EC3-E969-4920-8A25-EF1D1DFE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213-ED49-4E02-8B9A-252F762F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000-6CCA-4C1F-9D3D-C876E6BD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EA2-C8B6-4EA2-B533-AAC08B74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A75-4DFF-47EE-B9B6-EC375FB7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885-9E38-4A7E-928C-84657466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ABB-CCDE-42BE-AB2C-58237E1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96C-9238-4EA3-BECA-AF35ECE4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051-123C-4A2A-83B7-F0739306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84E14-A3FA-4D21-B1D1-BD61710839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