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28146"/>
        <c:axId val="76709626"/>
      </c:barChart>
      <c:catAx>
        <c:axId val="18281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09626"/>
        <c:crosses val="autoZero"/>
        <c:auto val="1"/>
        <c:lblAlgn val="ctr"/>
        <c:lblOffset val="100"/>
        <c:noMultiLvlLbl val="0"/>
      </c:catAx>
      <c:valAx>
        <c:axId val="767096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281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5D85-0BFD-44DA-BA67-8DEA84A66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C6ED-6505-4691-9AA1-2E76BEA2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5C68-3F89-4D8D-8600-24FC09295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A0DE-49AF-4E70-9BFD-92D5ABB9F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0F42-4E2D-48FA-8497-8B45538D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EEA0-3424-447B-9405-F325B8B4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4DFD-B582-4643-A81D-AFE393E0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7908-8D7C-4C8E-BA96-AD4BD3DB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D9E2-5BD8-44BD-BE20-DB290123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EB05-0648-4ACC-97BF-219DAB6C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0E05-45F7-441E-858A-1128C0A8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5BD6-81DB-4A5F-806F-357D05DD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62F81-B096-4892-AD7B-1A1FAA5E7B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