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69536"/>
        <c:axId val="52004593"/>
      </c:barChart>
      <c:catAx>
        <c:axId val="48369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04593"/>
        <c:crosses val="autoZero"/>
        <c:auto val="1"/>
        <c:lblAlgn val="ctr"/>
        <c:lblOffset val="100"/>
        <c:noMultiLvlLbl val="0"/>
      </c:catAx>
      <c:valAx>
        <c:axId val="52004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69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5EC-8845-451B-946B-F508BCBB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9F3-2EAD-4AC2-8B19-AB0C079E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18D-FBF5-4895-8CBC-2467586D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923-8E4E-4E64-8E4B-72D22A61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4C9-DDA7-440F-A710-315EA1B4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A5E-C4AE-4A70-9FCA-CEB58F05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085-1071-4E5A-9EB1-A9B5AAB3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CEB-8F94-463B-8BA9-7F70CB54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6FA-CD45-4B09-8F71-45AC5BF8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1E0-5CD9-4C4D-BA4E-931D7881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120-ECEC-4D2B-8D9D-886EF3DE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026-08FB-43B0-A09D-14E48DFE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6C7BA-E7D0-4A38-89C1-0A3302FB30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