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68606"/>
        <c:axId val="42720469"/>
      </c:barChart>
      <c:catAx>
        <c:axId val="96968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20469"/>
        <c:crosses val="autoZero"/>
        <c:auto val="1"/>
        <c:lblAlgn val="ctr"/>
        <c:lblOffset val="100"/>
        <c:noMultiLvlLbl val="0"/>
      </c:catAx>
      <c:valAx>
        <c:axId val="42720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68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C0E-39CD-445B-8C79-B9F62CA5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13E-ED04-4E97-9F04-07D65958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E17-C2DB-4DE5-9EF6-CA6751B3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840-EAE4-42E4-A257-08D35036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817-10B6-42F2-B2F9-C51F4856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D32-F0EE-47C4-9E94-420BB514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16C-0914-4BD6-BCA4-A6CC0431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456-04B8-4BCC-A9F9-F935ADD4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399-213D-4378-8877-AD1865C1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CC5-FD5C-418F-9BBD-A2ECEE87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26A-7B52-4FBC-A390-FCC3D0B3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03C-0807-448F-87E8-5DDCE957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852D7-58AD-43B2-8C20-46F649B451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