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6667"/>
        <c:axId val="98525321"/>
      </c:barChart>
      <c:catAx>
        <c:axId val="9026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25321"/>
        <c:crosses val="autoZero"/>
        <c:auto val="1"/>
        <c:lblAlgn val="ctr"/>
        <c:lblOffset val="100"/>
        <c:noMultiLvlLbl val="0"/>
      </c:catAx>
      <c:valAx>
        <c:axId val="98525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6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C43-7CD5-4BB2-AA0E-A26C4378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EA3-8A06-405A-982C-22463626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EBC-B344-4717-A7D6-BCB01384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2A4-8BEB-40FC-976D-28BAE922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6DE-57C4-4986-9E54-603453B2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736-BB1C-4DD4-8611-6D260D61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322-B68C-4D22-BD16-9D3484B3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484-7A89-48E4-8706-050BF548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B57-1E61-415E-9877-83FF99EA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E8D-A3A3-42B3-B057-C0B56A7E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337-4774-4086-A93E-1DA13CFD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13E-EDD2-41CD-AF3E-013B592E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A6099-9096-4961-B033-7D369EA530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