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789094"/>
        <c:axId val="83253665"/>
      </c:barChart>
      <c:catAx>
        <c:axId val="187890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253665"/>
        <c:crosses val="autoZero"/>
        <c:auto val="1"/>
        <c:lblAlgn val="ctr"/>
        <c:lblOffset val="100"/>
        <c:noMultiLvlLbl val="0"/>
      </c:catAx>
      <c:valAx>
        <c:axId val="832536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7890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30B4-0435-43E0-A13F-1AD684F48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3A1C-E895-4C6F-BF64-B9DE66A8A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0AF2-BCB8-4861-8D32-968E67F32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8AE8-1858-4739-A620-B1319A4A2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2785-E384-4C14-B021-2C699729E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C834-7CE6-4BED-BBFB-DDE53E831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D288-4D63-4112-B6B8-E459538E4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BA44-82C7-4A5D-93AF-36D3A2B3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F434-9AC0-4159-B3C0-D5E0F2FFF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08A5-E44F-4F98-A66F-B8FAFF4A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B878-EAF6-41E6-B0F1-DFECA5CF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C142-6469-4497-A04B-DEA5D220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D1AC36-E4F9-4D85-92DF-CD19A8527E8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