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45281"/>
        <c:axId val="26538124"/>
      </c:barChart>
      <c:catAx>
        <c:axId val="9804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8124"/>
        <c:crosses val="autoZero"/>
        <c:auto val="1"/>
        <c:lblAlgn val="ctr"/>
        <c:lblOffset val="100"/>
        <c:noMultiLvlLbl val="0"/>
      </c:catAx>
      <c:valAx>
        <c:axId val="26538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6F-0151-47A3-B683-5657CB9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7C6-BC23-455B-9DF6-E64A18C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B24-B898-4E1A-ABDB-31F0D3E0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F1E-168C-4C75-9AEE-F3F2541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572-F0CA-45A9-AE2C-89CE5827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911-03B2-4E71-B064-5797D76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8DC-A4D2-4E5B-A0FF-08EC4EF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246-5C75-4C15-9209-BB6E417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EAD-4EF4-4EF8-9A9A-D4BD185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3A-7CA3-4CF3-9D90-EBE53C2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8E5-923E-47B8-8B06-BB4A757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E82-2898-472D-B673-6AA6EAD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969A4-D01F-46A1-B66F-2FBDCC783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