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43586"/>
        <c:axId val="51502094"/>
      </c:barChart>
      <c:catAx>
        <c:axId val="27543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02094"/>
        <c:crosses val="autoZero"/>
        <c:auto val="1"/>
        <c:lblAlgn val="ctr"/>
        <c:lblOffset val="100"/>
        <c:noMultiLvlLbl val="0"/>
      </c:catAx>
      <c:valAx>
        <c:axId val="51502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3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C06-5110-4B20-9784-646B47C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E9B-7DE5-4E27-A814-27A3FB7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928-B012-4921-9DD8-E0923AA2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853-D463-44CA-8C85-42C37B4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F96-EC99-4424-9296-CE1C008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FB3-EDEB-4016-9E45-B5F12E2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C9E-C810-4105-A111-6674D1E7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923-A1C9-4D5F-91E2-9EDA96C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F50-B7A6-4343-9483-F0DCE71A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726-269E-461F-8CBA-B5E2DAC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EF1-5F36-4047-A2FA-B349CFB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3C3-620E-40B3-A664-E2043BA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58EF0-B0AF-4458-BEB5-74E8E4D56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