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319367"/>
        <c:axId val="88976068"/>
      </c:barChart>
      <c:catAx>
        <c:axId val="713193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976068"/>
        <c:crosses val="autoZero"/>
        <c:auto val="1"/>
        <c:lblAlgn val="ctr"/>
        <c:lblOffset val="100"/>
        <c:noMultiLvlLbl val="0"/>
      </c:catAx>
      <c:valAx>
        <c:axId val="889760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193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32A6-F957-49A1-B9AD-EEEC6BF80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4854-7124-4ACF-979E-35882FBC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FB1D-9D88-4870-A838-BEC8AC4EB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A45A-5C53-4066-A804-D758DF5F4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EE29-7CA9-47D9-9EC6-7A9E9D03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759D-AB2C-4FB9-9254-0E644FED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75E1-2713-4179-80A4-0C20D86F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584D-020D-475E-8054-58A623E9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CC48-7D42-48DB-BE00-95301C7A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733D-FA6C-44FD-835B-23C45715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FC7D-09EE-4530-964D-57E05A3A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22D7-4E0A-41D8-AF68-FC734F55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3F2020-17B0-4FF5-9F7F-1811458CAE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