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253485"/>
        <c:axId val="24830575"/>
      </c:barChart>
      <c:catAx>
        <c:axId val="572534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830575"/>
        <c:crosses val="autoZero"/>
        <c:auto val="1"/>
        <c:lblAlgn val="ctr"/>
        <c:lblOffset val="100"/>
        <c:noMultiLvlLbl val="0"/>
      </c:catAx>
      <c:valAx>
        <c:axId val="248305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534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9D41-F33C-4FFC-8E35-D71D0C058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5658-0010-4B63-BA61-0308EF9F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EBDE-863A-4B93-A69C-604FD21CB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1C4F-DEB1-44D2-A5F6-21659FCB8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4BD0-0AB6-4A4E-8556-35218E3C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6971-4F06-4056-99AE-57FC6DCF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F652-C53C-4519-9C41-DA5F38F7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E53E-9F84-4C1E-86A1-3FA64227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0C0B-FD5F-43CD-9FD3-52AB048F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58D2-8781-4D43-8A2F-D6648AC6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9D93-C543-4DEC-9A42-E49AC3A3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679E-AB2A-4DF5-9D7A-49D472ED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0BA6A7-3EC9-434B-A767-34169040A3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