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11608"/>
        <c:axId val="62422753"/>
      </c:barChart>
      <c:catAx>
        <c:axId val="68711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22753"/>
        <c:crosses val="autoZero"/>
        <c:auto val="1"/>
        <c:lblAlgn val="ctr"/>
        <c:lblOffset val="100"/>
        <c:noMultiLvlLbl val="0"/>
      </c:catAx>
      <c:valAx>
        <c:axId val="62422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11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F6B-C3D0-43F9-BED3-D7F9EB48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CA9-BF32-4330-94BB-BFBD6D69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44B-248B-4E3E-A3C0-41B14035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806-F57A-474A-99F4-45888937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143-7AE0-42CC-92ED-8CA8C639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8CB-796E-4C3A-BA4A-D22800EB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E02-8BCC-488E-AA63-10BA05ED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557-3657-4480-8D63-F41FACED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398-4D05-4FE9-B64E-15ADF873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D0D-C9CB-4E61-8631-279560FF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988-55DE-419A-8648-D9CF508A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4C4-DF01-4856-A2B3-9298F3C4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DC6D4-33D0-429F-94C0-34D3C73513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