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13069"/>
        <c:axId val="20487259"/>
      </c:barChart>
      <c:catAx>
        <c:axId val="32013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7259"/>
        <c:crosses val="autoZero"/>
        <c:auto val="1"/>
        <c:lblAlgn val="ctr"/>
        <c:lblOffset val="100"/>
        <c:noMultiLvlLbl val="0"/>
      </c:catAx>
      <c:valAx>
        <c:axId val="20487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3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6DE-B2AD-4627-A520-E5AE491A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DE1-B69F-42CB-8B88-A8EB423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ECC-F926-4A33-870C-6514CE83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BC4-FF9F-4FA2-83FC-1F103321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3C8-35F4-4330-AED3-6771E989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85A-38E2-4AF6-A46A-6360E554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CC6-2D6E-4F78-AE1C-E6D5A6DC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595-D854-4E66-A121-A4E0B7E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684-F652-45AA-ADA5-526E607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A78-553B-46A2-A385-1D8CB8E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B53-45F6-4AF9-B003-5E42911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B0B-9438-4A2E-8055-62E4C23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5C37-F964-490E-A4EA-39989BA7E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