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06061"/>
        <c:axId val="85891973"/>
      </c:barChart>
      <c:catAx>
        <c:axId val="90006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91973"/>
        <c:crosses val="autoZero"/>
        <c:auto val="1"/>
        <c:lblAlgn val="ctr"/>
        <c:lblOffset val="100"/>
        <c:noMultiLvlLbl val="0"/>
      </c:catAx>
      <c:valAx>
        <c:axId val="85891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06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BF9-7491-41BE-935F-D708CCC2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5BA-B917-4732-9F9E-747488EB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1B4-9012-47AA-8826-E976D485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BD9-ADC7-47AD-A156-B3FDFAB9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DE9-DDBA-44C2-8990-F803B8FA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C3E-C759-4EF4-B055-C52108D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272-7337-43DC-B619-A7537205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5D6-CEF8-49C8-B5A7-D8A57E8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82B-FEA4-4C63-8839-97020044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C8B-EFFF-4BFA-B60F-A2AC5FD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7DD-24D0-482F-B5ED-09F01E7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4D0-E0BB-4F03-954F-91D24ED4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2B784-E995-4A2B-B278-868839AD5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