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70641"/>
        <c:axId val="75424315"/>
      </c:barChart>
      <c:catAx>
        <c:axId val="47270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24315"/>
        <c:crosses val="autoZero"/>
        <c:auto val="1"/>
        <c:lblAlgn val="ctr"/>
        <c:lblOffset val="100"/>
        <c:noMultiLvlLbl val="0"/>
      </c:catAx>
      <c:valAx>
        <c:axId val="75424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70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08B-7FDC-4041-AD67-8296B115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C60-5AEA-4063-B75E-D3574C73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C2D-7BE9-4D52-926D-EB8A5609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B84-2DDD-4461-BB90-D5B45649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742-1C07-47D6-BB1E-E6D35A0E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5B4-3137-47B8-96CD-863A8350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3D6-DD03-43AA-8005-31F80AF1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8FE-17A8-4FEA-AC82-7EADA02D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4FB-FA86-4B1B-BFDD-775B183B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728-BD29-4E10-8BD7-7646B3C0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6EE-4D43-4702-892A-1DF0DFF7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3D3-3CC4-464B-B086-8A0857FC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2832A-900A-42A0-9D56-158CED738C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