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946222"/>
        <c:axId val="36689129"/>
      </c:barChart>
      <c:catAx>
        <c:axId val="639462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689129"/>
        <c:crosses val="autoZero"/>
        <c:auto val="1"/>
        <c:lblAlgn val="ctr"/>
        <c:lblOffset val="100"/>
        <c:noMultiLvlLbl val="0"/>
      </c:catAx>
      <c:valAx>
        <c:axId val="366891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9462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F175-43DD-4D37-B3C0-CF5B3A3FA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2439-A1BE-43B1-9834-BC610D697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F5C3-FE78-43EE-86CB-231633C42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7B2D-8043-445D-BCEC-F8586D1F8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115A-E2FA-4B3A-8B8B-8D6F3C70C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35DE-D9DF-42FC-8693-504DBE394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F86C-936B-4BD9-8824-6B0BB3F48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85AF-9DFE-4A3C-B288-EE576F0AD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F5B7-3CC4-4167-A2AC-82D41E2C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A55E-62DD-4B37-8823-36E79A6C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935A-234A-4429-86E3-238D22FA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EC89-ED5E-4E2C-A57C-D93073BF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3C37B9-C9C7-4641-80B0-B6B95EE3450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