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030552"/>
        <c:axId val="1162624"/>
      </c:barChart>
      <c:catAx>
        <c:axId val="450305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62624"/>
        <c:crosses val="autoZero"/>
        <c:auto val="1"/>
        <c:lblAlgn val="ctr"/>
        <c:lblOffset val="100"/>
        <c:noMultiLvlLbl val="0"/>
      </c:catAx>
      <c:valAx>
        <c:axId val="11626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305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DFAE-F23F-426D-B13F-F9ACB5A62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F6CD-33C4-4724-A41A-58868E0B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252B-EF7F-408C-8028-3F9BBB21F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46AD-6359-4871-9C9A-0CAA9E01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9CA1-F516-4FDD-BC43-2A5AD761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69BB-AF1D-4032-BF34-9194AB8F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70A1-85E0-4C67-8A97-334921CF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3758-0422-4637-8AD6-DAC53700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710F-EF9B-4E7E-A9FA-4704BBD4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080E-B435-4398-B2B0-C5AA0E2C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FCD5-73FF-4D32-9B23-E15A1D38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900E-8385-493C-8B2E-6C8B5E2B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81021-68A9-40DE-9621-F83789356A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