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129996"/>
        <c:axId val="90621841"/>
      </c:barChart>
      <c:catAx>
        <c:axId val="791299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621841"/>
        <c:crosses val="autoZero"/>
        <c:auto val="1"/>
        <c:lblAlgn val="ctr"/>
        <c:lblOffset val="100"/>
        <c:noMultiLvlLbl val="0"/>
      </c:catAx>
      <c:valAx>
        <c:axId val="906218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1299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F7B4-2C2F-4EB0-B2EC-CC018DE90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68EE-2A81-4C6B-83E5-305F8E77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64A6-D4B6-419E-AAA2-F754F71B6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0B88-7725-4EF2-8008-52D469F3A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D603-7621-4E0D-BDB2-01C97771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0CAC-9236-429C-B24C-052CE0BF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8FA0-0E08-4CE1-93A4-EA69BF73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5232-A95A-4AF4-95C9-D9AF22F1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C233-D80C-4C5D-8A00-D1D668F7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ECA0-EE7B-4BF0-BB05-CFB93A0B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7A43-6339-4DB4-B3DE-CB206E63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B4E1-0A66-4DBB-8ABF-BA32450A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480FFC-6818-4F75-B509-CE3D113DD9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