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537913"/>
        <c:axId val="69137695"/>
      </c:barChart>
      <c:catAx>
        <c:axId val="735379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37695"/>
        <c:crosses val="autoZero"/>
        <c:auto val="1"/>
        <c:lblAlgn val="ctr"/>
        <c:lblOffset val="100"/>
        <c:noMultiLvlLbl val="0"/>
      </c:catAx>
      <c:valAx>
        <c:axId val="69137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379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7046-50F6-4F13-B94F-55C970C3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722-8EA2-4AEF-9A05-E80833D0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6152-2A78-4888-9FC0-977F92D7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9B23-CF5F-45F0-A7C5-D273C979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0F52-12C6-461A-B415-FFDC302E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401C-A02E-43D9-B0CF-F32CF9B9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9E85-8625-4CEB-82EC-887BC0BD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AACE-AE40-40BD-A887-2CF308EC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1CEB-125D-43AB-8793-C0B266ED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319F-CC36-4BB1-881B-B474F439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5A4A-3CBD-4D21-8172-0833E023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6A4-6425-4877-8054-5E09DE9B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E3401-57C4-48C1-88C3-D94736CBDE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