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684"/>
        <c:axId val="18447747"/>
      </c:barChart>
      <c:catAx>
        <c:axId val="820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7747"/>
        <c:crosses val="autoZero"/>
        <c:auto val="1"/>
        <c:lblAlgn val="ctr"/>
        <c:lblOffset val="100"/>
        <c:noMultiLvlLbl val="0"/>
      </c:catAx>
      <c:valAx>
        <c:axId val="18447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AA4-221A-4841-BF70-FE0A5134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463-B79F-4C97-AC12-ACA243F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E74-2128-4C71-96EC-B6A22F0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C3D-E5ED-443C-B15C-0147F3A6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B74-4DBF-4702-B534-F55C22D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B5B-45B9-4924-AFDB-B5842A4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77A-F036-4063-8AB2-0ABFE61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3D6-EC07-496E-8643-2A123236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9B2-25E7-4037-9296-E5B7352A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877-E270-4036-9E1A-88CAADA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A2A-5493-45B6-99FC-E7A4AA1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553-56E4-46E3-BA30-AA0BA20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E3440-5EA5-403A-B2EA-AE8077974E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