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51750"/>
        <c:axId val="9296489"/>
      </c:barChart>
      <c:catAx>
        <c:axId val="11517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96489"/>
        <c:crosses val="autoZero"/>
        <c:auto val="1"/>
        <c:lblAlgn val="ctr"/>
        <c:lblOffset val="100"/>
        <c:noMultiLvlLbl val="0"/>
      </c:catAx>
      <c:valAx>
        <c:axId val="92964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17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D047-3E9E-4F30-81A6-12D2459AB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B5F0-A473-44E4-A5B9-E2F01B85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6071-A045-4534-BE9A-4F86AF68D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4E25-12DE-423C-8163-53081EC5E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1037-A961-4620-B06F-9412EE38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8040-D14E-48E8-85E4-76F69432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01B4-C2E2-4378-8B60-71B03354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00F8-00AD-4BF5-A904-E7FE3EA0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2D67-FFDA-4B96-9A4F-21C18DCF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6115-004F-456B-936C-0E941625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CCD8-1E47-4B99-B851-0720EFD3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5E35-E70C-4235-86A7-68043E7B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972F2-B84F-4A20-9680-433D3051F0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