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16305"/>
        <c:axId val="77913597"/>
      </c:barChart>
      <c:catAx>
        <c:axId val="70216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3597"/>
        <c:crosses val="autoZero"/>
        <c:auto val="1"/>
        <c:lblAlgn val="ctr"/>
        <c:lblOffset val="100"/>
        <c:noMultiLvlLbl val="0"/>
      </c:catAx>
      <c:valAx>
        <c:axId val="77913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16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012-7D46-4FCC-B43F-7A94A829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64C-0FA3-4C4D-AB11-5C511BF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E28-1B27-4BFB-9174-6E1BD045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73A-5011-405C-A59E-B41CB369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8C8-77DE-4655-B5F5-D8910E4F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446-9A38-4463-873D-B34D75A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928-F5FB-4E5F-AC63-00D1C5CA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EFC-2AC9-449F-9F02-C8D044BB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233-BC9D-40A1-8393-C44F0531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BEF-A07E-4208-867E-96A3C2A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9C7-9667-401B-BF46-CBF6D8F1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5F7-17DE-4F78-A7E0-7719160B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AB926-7B67-4007-A119-77311CBAB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