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71903"/>
        <c:axId val="93454509"/>
      </c:barChart>
      <c:catAx>
        <c:axId val="63471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54509"/>
        <c:crosses val="autoZero"/>
        <c:auto val="1"/>
        <c:lblAlgn val="ctr"/>
        <c:lblOffset val="100"/>
        <c:noMultiLvlLbl val="0"/>
      </c:catAx>
      <c:valAx>
        <c:axId val="93454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71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365-437F-4167-BC27-7FB9A745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E17-2438-4441-AA04-478C516D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E4B-E2FF-4A06-938B-79B224D9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32E-262A-4231-8D2A-B4E1744B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2F7-2D3A-445D-901E-91B11ACB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480-B6FA-4A4B-BD54-915ACE02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97C-02D1-4CF3-B975-DF86EB59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43F-0942-41FD-827D-E8DED0EB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DBE-4F5C-4CB1-8F77-2B23633E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D53-CF1E-4B4F-A579-FE7BD4D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6F2-1F01-4D71-B041-5DF62E73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F9C-86F4-4EE3-8BB3-5FEB6212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785A5-F4C0-4BCB-ACBA-B1991D6AFB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