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64679"/>
        <c:axId val="24498382"/>
      </c:barChart>
      <c:catAx>
        <c:axId val="18964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98382"/>
        <c:crosses val="autoZero"/>
        <c:auto val="1"/>
        <c:lblAlgn val="ctr"/>
        <c:lblOffset val="100"/>
        <c:noMultiLvlLbl val="0"/>
      </c:catAx>
      <c:valAx>
        <c:axId val="24498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64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CBD-FDF7-4B1C-B482-72B5FAC8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797-4CD2-41A8-ADF7-646948C0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3A7-46F9-401D-A56B-2DE5A620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646-ABF6-41B4-BFB9-3785C6FE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0DD7-59F2-492A-89ED-63DEEF4B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584-A605-4954-B6F3-619DA313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DC0-D492-4BA2-8BA0-E4A0ED8F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791-5AFD-43DA-8CC3-F40BE56A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B73-681C-4C2F-9BC4-E602F99E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CB6-F0C9-42DF-86DB-044826CE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1B6F-92A8-4963-94DE-3055EE76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687-0BD2-4E8E-84C0-11F24C0C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97AF8-31E1-4C90-BDB9-C265643E48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