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36469"/>
        <c:axId val="63697061"/>
      </c:barChart>
      <c:catAx>
        <c:axId val="60436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7061"/>
        <c:crosses val="autoZero"/>
        <c:auto val="1"/>
        <c:lblAlgn val="ctr"/>
        <c:lblOffset val="100"/>
        <c:noMultiLvlLbl val="0"/>
      </c:catAx>
      <c:valAx>
        <c:axId val="63697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6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3B6-90F2-449E-98BF-4484B70C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918-B921-4D12-8FB1-83FF58A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7BC-242D-472B-B27C-AE1D9958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BCB-0BEF-4A5F-8189-B7157701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6F2-0EC2-4449-907A-AEEC8C0C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737-67A2-460F-81B8-FC3A89F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A9B-7A9F-4821-87EA-2F24443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735-EED2-40D4-B092-20C023AB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F04-ACF4-4630-A037-97524C59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4A0-193D-4C8E-9755-8580D59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B3B-FD1D-404D-9273-9A18FCA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4BD-D80D-4F68-BAA0-D428D127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3BB3B-D7B3-4E6F-B8F6-916ACFF0E2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