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50977"/>
        <c:axId val="23775961"/>
      </c:barChart>
      <c:catAx>
        <c:axId val="50250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75961"/>
        <c:crosses val="autoZero"/>
        <c:auto val="1"/>
        <c:lblAlgn val="ctr"/>
        <c:lblOffset val="100"/>
        <c:noMultiLvlLbl val="0"/>
      </c:catAx>
      <c:valAx>
        <c:axId val="237759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50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5BE-3198-4F97-AEA6-3580CACF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148-62EC-4BEC-BA0B-A8E625FE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5A1D-31A0-4780-AA71-514347E2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A1A-C618-4CFB-AECF-D1D6C93F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8FD-5AF3-4218-9A87-7A208CF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609-2346-4382-9483-5D2F6F22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4F7-B1EB-40F2-81C2-DA492EDD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E57-C037-4F47-892B-5450AEEB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C0E-919C-4950-9768-5FC7A782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0A7-8CA7-4789-BE71-F5483CD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774-03DE-47C8-B104-1F4BA5BB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C47-63DD-4C4E-8EA0-AFAF3853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98B89-CFF0-46F3-81BF-D5CB40170E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