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817363"/>
        <c:axId val="50125374"/>
      </c:barChart>
      <c:catAx>
        <c:axId val="4181736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125374"/>
        <c:crosses val="autoZero"/>
        <c:auto val="1"/>
        <c:lblAlgn val="ctr"/>
        <c:lblOffset val="100"/>
        <c:noMultiLvlLbl val="0"/>
      </c:catAx>
      <c:valAx>
        <c:axId val="501253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81736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A679-EC3B-42C0-A818-393DAAD76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F9CA-744B-4CFB-9E8C-4F0D09A0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9BC5-5290-4E35-A2E1-E1725E8823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4DFC7-E48B-448C-AE44-52AB47B579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9071-A2D0-498F-9603-95C10EDBC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EF77-5A2B-4762-9460-3CCEB6883B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7F9A1-766F-4573-9C24-613571F0D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64A1-2AA3-40AC-876E-B1CF69C14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F5DA4-2DF7-4963-B480-4DDB823E0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197A7-8B17-4CBB-9ABC-64BFF0676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52D62-866C-4307-B53A-099E423CD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BD524-EB7D-4630-869C-BDAD2A727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69D267-3A46-43DF-BE7D-B4E7503871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