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10955"/>
        <c:axId val="25698185"/>
      </c:barChart>
      <c:catAx>
        <c:axId val="54910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98185"/>
        <c:crosses val="autoZero"/>
        <c:auto val="1"/>
        <c:lblAlgn val="ctr"/>
        <c:lblOffset val="100"/>
        <c:noMultiLvlLbl val="0"/>
      </c:catAx>
      <c:valAx>
        <c:axId val="25698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10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5FB-3C50-4FA8-880D-3AC06387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7A1-8CD9-429D-99A8-3459DD3C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647-7911-4FC2-9EF0-81F95E66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7AA-03C5-4590-83E7-D32E88E6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75B-0893-4FB0-AB20-5D06B38C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551-CF0B-4CD6-A646-0636CE71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033-B79A-4E82-8FFD-DE0E557E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55F-5907-478F-9435-62B6596D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2E4-7A4F-4AFD-9893-EE02C08A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3C4-582F-4A0B-857C-57F1E995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7B8-087E-444F-9E42-EE28EC7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D4E-A210-424B-BFAC-BA5F030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B45F7-5CA3-47B8-89CB-62393BFA93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