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65965"/>
        <c:axId val="69143860"/>
      </c:barChart>
      <c:catAx>
        <c:axId val="61965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43860"/>
        <c:crosses val="autoZero"/>
        <c:auto val="1"/>
        <c:lblAlgn val="ctr"/>
        <c:lblOffset val="100"/>
        <c:noMultiLvlLbl val="0"/>
      </c:catAx>
      <c:valAx>
        <c:axId val="69143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65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586-C91F-4DB9-BB9F-2A2CC1E1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74B-6502-4154-B5C6-C1180A0C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72A-D389-4334-BE5B-CF9E70A7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D47-5D09-4569-A294-DAE1F4D7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7BF-ECD9-4383-A470-DFB34E2E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034-5659-4CC0-B81C-276017C7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7EA-E2BD-4005-BB5D-2EE7799C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C39-5404-4A24-BC65-A11C827E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4BA-118F-49D9-AD6E-F6530D78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343-52D8-487A-A2EF-E8FA52B5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295-0008-4011-9F50-13D6FF7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21E-8E29-4DCD-9B95-93ED6D19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723C8-7791-47D2-922A-CCC30BD874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