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26259"/>
        <c:axId val="96307559"/>
      </c:barChart>
      <c:catAx>
        <c:axId val="91926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07559"/>
        <c:crosses val="autoZero"/>
        <c:auto val="1"/>
        <c:lblAlgn val="ctr"/>
        <c:lblOffset val="100"/>
        <c:noMultiLvlLbl val="0"/>
      </c:catAx>
      <c:valAx>
        <c:axId val="96307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26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467-65CE-4F41-B407-692AFD18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580-A695-4B6F-A336-587BED09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A52-AF1D-4ECA-A33F-32C8703E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3BA-7027-4C8C-A036-648EBBCD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8E6-34A0-46B3-9884-19C5579C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08F-6138-450A-9831-1B46141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03E-DBE7-47EE-88DB-7F6801E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6C3-475A-44FE-9EFC-7F881EE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18F-4C0B-4988-AF26-30A2792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C03-4998-4B64-AF53-74538A9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14D-F000-4F78-A6FC-FB98758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444-FA7A-463C-9E2F-38DB20B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3398-95FA-4F74-8BF7-5BFE171E1F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