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62575"/>
        <c:axId val="94888376"/>
      </c:barChart>
      <c:catAx>
        <c:axId val="2006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8376"/>
        <c:crosses val="autoZero"/>
        <c:auto val="1"/>
        <c:lblAlgn val="ctr"/>
        <c:lblOffset val="100"/>
        <c:noMultiLvlLbl val="0"/>
      </c:catAx>
      <c:valAx>
        <c:axId val="94888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76A-7FDE-472D-ADEC-C062A949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DAA-3E03-4178-ABD0-FCB92902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A90-3BC8-4357-83AF-85FD432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797-DF51-4E00-AFE4-4DFA7AB5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FC7-055C-404B-B90E-60FC638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81C-007C-499C-84B0-C1504496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D02-381C-4ADA-AD17-89A61883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AB6-34BB-4E04-9065-E4D73DF1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394-5482-4501-A474-ED62A59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94D-EF56-48BA-AF39-AAB0453C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6C6-1C8A-41A3-89D9-30CBBB8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257-196A-4ECF-A6C5-466616F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1D6B5-F5C4-43EB-8D4F-7357564AB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