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853697"/>
        <c:axId val="46701261"/>
      </c:barChart>
      <c:catAx>
        <c:axId val="73853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01261"/>
        <c:crosses val="autoZero"/>
        <c:auto val="1"/>
        <c:lblAlgn val="ctr"/>
        <c:lblOffset val="100"/>
        <c:noMultiLvlLbl val="0"/>
      </c:catAx>
      <c:valAx>
        <c:axId val="46701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53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798-FE2A-4A54-96DB-8302A027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2733-EFF4-4515-A58E-263D6BC7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D58D-009B-4904-9772-6E535D2D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1A8-B4DE-4825-9796-AA7617E7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B4F3-E7BC-4AFE-8A55-18CFF408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D6E-F99B-4A1E-87AE-9E9EEA64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F0E-8434-4A40-9E22-DE100F9E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D838-F3A1-4293-A5B2-E29E93B7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7AEA-0EFA-41B8-B50D-7F24795C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AA2-2E1C-447A-A008-A44430BA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535-7868-4EA4-B2A6-4C7067F7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2992-F6D2-4C6F-B908-6B20735E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58FF8-77FD-4840-AF68-61868E34F1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