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99255"/>
        <c:axId val="80572988"/>
      </c:barChart>
      <c:catAx>
        <c:axId val="52992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72988"/>
        <c:crosses val="autoZero"/>
        <c:auto val="1"/>
        <c:lblAlgn val="ctr"/>
        <c:lblOffset val="100"/>
        <c:noMultiLvlLbl val="0"/>
      </c:catAx>
      <c:valAx>
        <c:axId val="805729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92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C86-8EAF-4C33-BD51-77AFD6EF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CCFD-2F15-4F2D-96EF-5383E4B8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520-547F-454F-B0BE-3D20353B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25B1-19C0-46B2-BC7B-14E0A011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5F51-4DED-415C-8304-E037F494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660-2CB2-4407-9757-A75D78FF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367-2D80-434B-8F12-3CE2D0BB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9CBC-0DA6-4498-942D-14B13378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0096-BEAE-4BC2-8018-558CB19B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1CF-60E1-49BB-821D-330474D0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926-7E9F-4604-9FFE-28258868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9DBA-30CE-4969-AB08-53048384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EF03C-6F06-4D96-AAF9-FE285DF43A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